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4.jpeg" ContentType="image/jpeg"/>
  <Override PartName="/ppt/media/image2.png" ContentType="image/pn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30.jpeg" ContentType="image/jpeg"/>
  <Override PartName="/ppt/media/image25.png" ContentType="image/png"/>
  <Override PartName="/ppt/media/image19.jpeg" ContentType="image/jpe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 2.2 Using the Minimum Standards for Health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C474-6BDE-47FA-A553-843B3E7EB9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A810-B5C8-463E-850C-281B54407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SESSION 2.2 Using the Minimum Standards for Health Servic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E78D-8803-4576-81D7-FFD530C3D5B3}" type="datetime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85A3-4534-44D4-ACAF-A8E96E22FC8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A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SESSION 2.2 Using the Minimum Standards for Health Servic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E1BB-B292-4DC9-9685-0654EF00D2C5}" type="datetime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9A59-6131-41C3-A3FF-1964E07A031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A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SESSION 2.2 Using the Minimum Standards for Health Servic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4C63-D749-4753-839F-7C520A5FBFEE}" type="datetime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F354-FBB7-47CB-A217-A99BB706E9B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A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SESSION 2.2 Using the Minimum Standards for Health Servic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CEA2-EF0C-4DB7-9C7A-63D4BC91128F}" type="datetime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FFC6-B46F-478F-B292-BBFE6AB08D3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A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SESSION 2.2 Using the Minimum Standards for Health Servic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762F-5DCF-401E-A95D-F4CE03858641}" type="datetime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F00D-A203-44EA-839C-ABFCBC22343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e is a particularly evil synergism between vitamin A defic and measles. Measles unmasks the debilitating effects of vit A def- namely the destruction of the cornea of the ey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t A def, even subclinical, significantly increases the morbidity and mortality of measles. Although this synergism is well accepted, the underlying physiology is not understo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SESSION 2.2 Using the Minimum Standards for Health Servic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CF0E-750F-4002-9012-CD717CB508DD}" type="datetime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99F7-5779-4CE5-AF1A-C76F5708092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is a young child being given vit A which comes as an oily liquid in a capsule. The contents of the capsule can be squeezed into the childs mouth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 practically speaking, mass distribution of appropriate doses of Vit A may be the best, quickly achievable goal in reducing measles mortal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SESSION 2.2 Using the Minimum Standards for Health Servic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B36B-00A7-434E-B7B8-1A1EE4CA34BE}" type="datetime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F80E-87CB-4456-BAF5-31E6134A0B5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A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SESSION 2.2 Using the Minimum Standards for Health Servic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9798-A847-4065-A9C9-1E475D930CA0}" type="datetime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0B7D-50B0-41F3-865F-488BCA72B9F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A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SESSION 2.2 Using the Minimum Standards for Health Servic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FAF1-9870-4F7A-9731-90A7446F3FB0}" type="datetime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C201-066B-4DAD-BEF5-7201CF41C1B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A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SESSION 2.2 Using the Minimum Standards for Health Servic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E797-C114-4C1B-9FC6-D6FC0EB1DAA8}" type="datetime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832F-9C4A-4233-BB10-968FBFF297A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A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24B-7C50-432D-A73A-D789A60C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AB9-9248-44BB-ACC9-B0B6D025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E11C-5B4F-4940-8291-248FAAEE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FC9-6E60-4043-ACDA-BDC486C9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DA04-95A4-4AA4-AE78-E3DDD1B5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D4D5-A055-4ED1-A574-BE0CC302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726C-B2E1-4970-BB19-04AC0CCB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ADE3-9815-4A2C-84AC-E11FF21B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4E3B-1BA4-4D64-9DE3-FC5F3559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BD25-41DD-4484-A593-A6F4331D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FCEF-5A7A-4368-AEE2-61A7DE3B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BB7-A50F-4AE7-A514-E7797215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3737-6639-41C9-BAFA-FA2F040F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A0FD-ACC1-426D-A094-EE4B6FDD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E7AB-BE6C-4B16-BA9A-039EBB93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F9BE-4E35-431D-9380-C6FF238D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2B43-4F26-400B-854C-B6A6BC0E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02CA-72C2-4A62-9AC7-8471400D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73E8-422A-4D62-9035-A87FB88B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AB7E-EE24-4864-9B5C-A253FAD6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B9A-9B84-4CBA-B9B8-9206551A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D45D-D2DA-415B-90E3-68A7F994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1888-E461-4815-B376-4EA963CB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DA0D-0539-43B6-BB0B-F5A5325B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3B11-BA60-403C-94C4-4955FC64739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9412-8D1F-40CD-97DB-344C14D32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457C-7BAB-4CBA-B648-20C9340C72CF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1673-B6C7-4D0C-8084-8A9914C067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http://www.orourke.ie/Tools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Date Placeholder 1"/>
          <p:cNvSpPr/>
          <p:nvPr/>
        </p:nvSpPr>
        <p:spPr>
          <a:xfrm>
            <a:off x="6934320" y="518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التاريخ</a:t>
            </a:r>
            <a:r>
              <a:rPr b="0" lang="ar-EG" sz="1400" spc="-1" strike="noStrike">
                <a:solidFill>
                  <a:srgbClr val="ccecff"/>
                </a:solidFill>
                <a:latin typeface="Times New Roman"/>
              </a:rPr>
              <a:t>:                   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A34D-E706-4C82-96FA-295CDEB97B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-762120" y="2286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GA Arabesque"/>
                <a:cs typeface="AGA Arabesque"/>
              </a:rPr>
              <a:t>استخدام</a:t>
            </a:r>
            <a:r>
              <a:rPr b="1" lang="ar-EG" sz="4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</a:t>
            </a:r>
            <a:r>
              <a:rPr b="1" lang="ar-EG" sz="4400" spc="-1" strike="noStrike">
                <a:solidFill>
                  <a:srgbClr val="000000"/>
                </a:solidFill>
                <a:latin typeface="AGA Arabesque"/>
                <a:cs typeface="AGA Arabesque"/>
              </a:rPr>
              <a:t>المعايير</a:t>
            </a:r>
            <a:r>
              <a:rPr b="1" lang="ar-EG" sz="4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</a:t>
            </a:r>
            <a:r>
              <a:rPr b="1" lang="ar-EG" sz="4400" spc="-1" strike="noStrike">
                <a:solidFill>
                  <a:srgbClr val="000000"/>
                </a:solidFill>
                <a:latin typeface="AGA Arabesque"/>
                <a:cs typeface="AGA Arabesque"/>
              </a:rPr>
              <a:t>الدنيا</a:t>
            </a:r>
            <a:r>
              <a:rPr b="1" lang="ar-EG" sz="4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</a:t>
            </a:r>
            <a:r>
              <a:rPr b="1" lang="ar-EG" sz="4400" spc="-1" strike="noStrike">
                <a:solidFill>
                  <a:srgbClr val="000000"/>
                </a:solidFill>
                <a:latin typeface="AGA Arabesque"/>
                <a:cs typeface="AGA Arabesque"/>
              </a:rPr>
              <a:t>في</a:t>
            </a:r>
            <a:r>
              <a:rPr b="1" lang="ar-EG" sz="4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</a:t>
            </a:r>
            <a:r>
              <a:rPr b="1" lang="ar-SA" sz="4400" spc="-1" strike="noStrike">
                <a:solidFill>
                  <a:srgbClr val="000000"/>
                </a:solidFill>
                <a:latin typeface="AGA Arabesque"/>
                <a:cs typeface="AGA Arabesque"/>
              </a:rPr>
              <a:t>مجال</a:t>
            </a:r>
            <a:r>
              <a:rPr b="1" lang="ar-SA" sz="4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</a:t>
            </a:r>
            <a:r>
              <a:rPr b="1" lang="ar-EG" sz="4400" spc="-1" strike="noStrike">
                <a:solidFill>
                  <a:srgbClr val="000000"/>
                </a:solidFill>
                <a:latin typeface="AGA Arabesque"/>
                <a:cs typeface="AGA Arabesque"/>
              </a:rPr>
              <a:t>العمل</a:t>
            </a:r>
            <a:r>
              <a:rPr b="1" lang="ar-EG" sz="4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</a:t>
            </a:r>
            <a:r>
              <a:rPr b="1" lang="ar-EG" sz="4400" spc="-1" strike="noStrike">
                <a:solidFill>
                  <a:srgbClr val="000000"/>
                </a:solidFill>
                <a:latin typeface="AGA Arabesque"/>
                <a:cs typeface="AGA Arabesque"/>
              </a:rPr>
              <a:t>الصحي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6934320" y="533520"/>
            <a:ext cx="1904760" cy="19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7" name="Picture 7" descr="http://practicalaction.org/image/Book%20covers/The_Sphere_Project_cover_fab_test-thumbnail.png"/>
          <p:cNvPicPr/>
          <p:nvPr/>
        </p:nvPicPr>
        <p:blipFill>
          <a:blip r:embed="rId2"/>
          <a:stretch/>
        </p:blipFill>
        <p:spPr>
          <a:xfrm rot="921000">
            <a:off x="415800" y="4013280"/>
            <a:ext cx="1839960" cy="2239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7448-0613-4E0E-9197-7DEB89CA4A2D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3049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معيار نظم الصحة رقم </a:t>
            </a:r>
            <a:r>
              <a:rPr b="1" lang="ar-AE" sz="36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6</a:t>
            </a:r>
            <a:r>
              <a:rPr b="1" lang="ar-AE" sz="36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: القيادة والتنسيق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457200" y="1905120"/>
            <a:ext cx="2819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ينبغي أن يحصل الناس على خدمات صحية يجري تنسيقها بين كل الوكالات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الإنسانية وقطاعات العمل الإنساني الأخرى لتحقيق أقصى فائدة ممكنة.</a:t>
            </a:r>
            <a:r>
              <a:rPr b="0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-1229040" y="5486400"/>
            <a:ext cx="709488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9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5958360" y="5257800"/>
            <a:ext cx="319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ccecff"/>
                </a:solidFill>
                <a:latin typeface="Arial"/>
                <a:cs typeface="Traditional Arabic"/>
              </a:rPr>
              <a:t>مستشفى سانت ماري- لاكور- أوغندا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2" name="Picture 8" descr="(22)_35"/>
          <p:cNvPicPr/>
          <p:nvPr/>
        </p:nvPicPr>
        <p:blipFill>
          <a:blip r:embed="rId1"/>
          <a:stretch/>
        </p:blipFill>
        <p:spPr>
          <a:xfrm>
            <a:off x="3505320" y="1447920"/>
            <a:ext cx="533376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7E6C-926B-41DC-A9E9-76E5A5AB4EF0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304920" y="1810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معيار خدمات الصحة الأساسية رقم </a:t>
            </a:r>
            <a:r>
              <a:rPr b="1" lang="ar-AE" sz="32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1</a:t>
            </a:r>
            <a:r>
              <a:rPr b="1" lang="ar-AE" sz="32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: </a:t>
            </a:r>
            <a:r>
              <a:rPr b="1" lang="ar-SA" sz="32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</a:t>
            </a:r>
            <a:r>
              <a:rPr b="1" lang="ar-AE" sz="32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ترتيب خدمات الصحة</a:t>
            </a:r>
            <a:r>
              <a:rPr b="1" lang="ar-EG" sz="32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</a:t>
            </a:r>
            <a:r>
              <a:rPr b="1" lang="ar-AE" sz="32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حسب الأولوية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533520" y="1752480"/>
            <a:ext cx="4114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ينبغي أن يحصل الناس على خدمات صحية تُرتب حسب الأولوية للتصد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لأهم أسباب الارتفاع المفرط في نسبة الاعتلال والوفيات.</a:t>
            </a:r>
            <a:r>
              <a:rPr b="0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838080" y="5638680"/>
            <a:ext cx="436896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94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165640" y="4876920"/>
            <a:ext cx="344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  <a:ea typeface="Traditional Arabic"/>
              </a:rPr>
              <a:t>NSF photo – Turkish earthquake damag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380880" y="4724280"/>
            <a:ext cx="8305920" cy="94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عن أى شئ برأيك يتحدث هذا المعيار؟ ما هى المشكلات المشتركة التى يسعى لتجنبها؟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9" name="Picture 9" descr="p8037"/>
          <p:cNvPicPr/>
          <p:nvPr/>
        </p:nvPicPr>
        <p:blipFill>
          <a:blip r:embed="rId1"/>
          <a:stretch/>
        </p:blipFill>
        <p:spPr>
          <a:xfrm>
            <a:off x="4952880" y="1523880"/>
            <a:ext cx="3810240" cy="27734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0"/>
          <p:cNvSpPr/>
          <p:nvPr/>
        </p:nvSpPr>
        <p:spPr>
          <a:xfrm>
            <a:off x="4299480" y="4419720"/>
            <a:ext cx="55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ccecff"/>
                </a:solidFill>
                <a:latin typeface="Arial"/>
                <a:cs typeface="Traditional Arabic"/>
              </a:rPr>
              <a:t>حقوق طبع الصورة  للإتحاد الدولي لجمعيات الصليب الأحمر والهلال الأحمر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3BE9-D7F3-4FE2-B89E-7FE357A74955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99072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Tahoma"/>
                <a:cs typeface="Traditional Arabic"/>
              </a:rPr>
              <a:t>بعض المصطلحات الأساسية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7175520" y="1219320"/>
            <a:ext cx="210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u="sng">
                <a:solidFill>
                  <a:srgbClr val="ffff00"/>
                </a:solidFill>
                <a:uFillTx/>
                <a:latin typeface="Arial"/>
                <a:cs typeface="Traditional Arabic"/>
              </a:rPr>
              <a:t>الوفيات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1371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ثله مثل الوفاة. يعد أكثر المفاهيم الراسخة في الصحة عبر جميع الثقافات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062840" y="2209680"/>
            <a:ext cx="211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u="sng">
                <a:solidFill>
                  <a:srgbClr val="ffff00"/>
                </a:solidFill>
                <a:uFillTx/>
                <a:latin typeface="Arial"/>
                <a:cs typeface="Traditional Arabic"/>
              </a:rPr>
              <a:t>الاعتلال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133720" y="2438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مرض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09520" y="34862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52280" y="34290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عدد الإجمالي للوفيات في فترة محددة لعدد سكان محدد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203040" y="34099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6055920" y="3200400"/>
            <a:ext cx="36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u="sng">
                <a:solidFill>
                  <a:srgbClr val="ffff00"/>
                </a:solidFill>
                <a:uFillTx/>
                <a:latin typeface="Arial"/>
                <a:cs typeface="Traditional Arabic"/>
              </a:rPr>
              <a:t>معدل الوفيات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5257800" y="4343400"/>
            <a:ext cx="368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ff00"/>
                </a:solidFill>
                <a:uFillTx/>
                <a:latin typeface="Arial"/>
                <a:cs typeface="Traditional Arabic"/>
              </a:rPr>
              <a:t>وقوع حدث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838080" y="4343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حدث صحي لكل وحدة زمنية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304920" y="53341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لمحة عن وضع الحالة الصحية خلال نقطة زمنية محددة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7122600" y="5257800"/>
            <a:ext cx="21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u="sng">
                <a:solidFill>
                  <a:srgbClr val="ffff00"/>
                </a:solidFill>
                <a:uFillTx/>
                <a:latin typeface="Arial"/>
                <a:cs typeface="Traditional Arabic"/>
              </a:rPr>
              <a:t>الانتشار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2284-A601-4060-8F71-A86B725BCD3F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3243240" y="228600"/>
            <a:ext cx="65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ff"/>
                </a:solidFill>
                <a:latin typeface="Arial"/>
                <a:cs typeface="Traditional Arabic"/>
              </a:rPr>
              <a:t>بعض المؤشرات الرئيسية: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380880" y="10666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”</a:t>
            </a:r>
            <a:r>
              <a:rPr b="0" lang="ar-SA" sz="2800" spc="-1" strike="noStrike">
                <a:solidFill>
                  <a:srgbClr val="ccecff"/>
                </a:solidFill>
                <a:latin typeface="Arial"/>
                <a:cs typeface="Traditional Arabic"/>
              </a:rPr>
              <a:t>ينبغي المحافظة على معدل الوفيات الخام الحالي أو تخفيضه إلى ما يقل عن ضعف مستواه المرجعي قبل وقوع الكارثة </a:t>
            </a:r>
            <a:r>
              <a:rPr b="0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380880" y="25909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”</a:t>
            </a:r>
            <a:r>
              <a:rPr b="0" lang="ar-SA" sz="2800" spc="-1" strike="noStrike">
                <a:solidFill>
                  <a:srgbClr val="ccecff"/>
                </a:solidFill>
                <a:latin typeface="Arial"/>
                <a:cs typeface="Traditional Arabic"/>
              </a:rPr>
              <a:t>ينبغي المحافظة على المستوى الحالي لمعدل وفيات الأطفال دون خمس سنوات أو تخفيضه إلى ما يقل عن ضعف مستواه المرجعي قبل وقوع الكارثة</a:t>
            </a:r>
            <a:r>
              <a:rPr b="0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26840" y="4038480"/>
            <a:ext cx="72799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295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914400" y="472608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00"/>
                </a:solidFill>
                <a:latin typeface="Arial"/>
                <a:cs typeface="Traditional Arabic"/>
              </a:rPr>
              <a:t>ماذا يعني هذان المؤشران فعليا؟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38160">
            <a:solidFill>
              <a:srgbClr val="ccec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حساب معدل الوفيات الخام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ccecff"/>
                </a:solidFill>
                <a:latin typeface="Arial"/>
                <a:ea typeface="Traditional Arabic"/>
              </a:rPr>
              <a:t>	</a:t>
            </a:r>
            <a:r>
              <a:rPr b="1" lang="ar-EG" sz="2800" spc="-1" strike="noStrike">
                <a:solidFill>
                  <a:srgbClr val="ccecff"/>
                </a:solidFill>
                <a:latin typeface="Arial"/>
                <a:cs typeface="Traditional Arabic"/>
              </a:rPr>
              <a:t>عدد الوفيات /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10.000</a:t>
            </a:r>
            <a:r>
              <a:rPr b="1" lang="ar-EG" sz="2800" spc="-1" strike="noStrike">
                <a:solidFill>
                  <a:srgbClr val="ccecff"/>
                </a:solidFill>
                <a:latin typeface="Arial"/>
                <a:cs typeface="Traditional Arabic"/>
              </a:rPr>
              <a:t>يوميا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 u="sng">
                <a:solidFill>
                  <a:srgbClr val="ccecff"/>
                </a:solidFill>
                <a:uFillTx/>
                <a:latin typeface="Arial"/>
                <a:cs typeface="Traditional Arabic"/>
              </a:rPr>
              <a:t>عدد الوفيات </a:t>
            </a:r>
            <a:r>
              <a:rPr b="1" lang="en-US" sz="2800" spc="-1" strike="noStrike" u="sng">
                <a:solidFill>
                  <a:srgbClr val="ccecff"/>
                </a:solidFill>
                <a:uFillTx/>
                <a:latin typeface="Arial"/>
                <a:ea typeface="Traditional Arabic"/>
              </a:rPr>
              <a:t>x</a:t>
            </a:r>
            <a:r>
              <a:rPr b="1" lang="ar-EG" sz="2800" spc="-1" strike="noStrike" u="sng">
                <a:solidFill>
                  <a:srgbClr val="ccecff"/>
                </a:solidFill>
                <a:uFillTx/>
                <a:latin typeface="Arial"/>
                <a:ea typeface="Traditional Arabic"/>
              </a:rPr>
              <a:t> </a:t>
            </a:r>
            <a:r>
              <a:rPr b="1" lang="en-US" sz="2800" spc="-1" strike="noStrike" u="sng">
                <a:solidFill>
                  <a:srgbClr val="ccecff"/>
                </a:solidFill>
                <a:uFillTx/>
                <a:latin typeface="Arial"/>
                <a:ea typeface="Traditional Arabic"/>
              </a:rPr>
              <a:t>10.000</a:t>
            </a:r>
            <a:r>
              <a:rPr b="1" lang="ar-EG" sz="2800" spc="-1" strike="noStrike" u="sng">
                <a:solidFill>
                  <a:srgbClr val="ccecff"/>
                </a:solidFill>
                <a:uFillTx/>
                <a:latin typeface="Arial"/>
                <a:cs typeface="Traditional Arabic"/>
              </a:rPr>
              <a:t>يوميا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	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	</a:t>
            </a:r>
            <a:r>
              <a:rPr b="1" lang="ar-EG" sz="2800" spc="-1" strike="noStrike">
                <a:solidFill>
                  <a:srgbClr val="ccecff"/>
                </a:solidFill>
                <a:latin typeface="Arial"/>
                <a:cs typeface="Traditional Arabic"/>
              </a:rPr>
              <a:t>عدد الأيام خلال الفترة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X</a:t>
            </a:r>
            <a:r>
              <a:rPr b="1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 عدد السكان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إذا توفى </a:t>
            </a:r>
            <a:r>
              <a:rPr b="0" lang="ar-EG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21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شخص فى إسبوع واحد من إجمالى عدد </a:t>
            </a:r>
            <a:r>
              <a:rPr b="0" lang="ar-EG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5000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نسمة ، فما هو معدل الوفيات؟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ccecff"/>
                </a:solidFill>
                <a:latin typeface="Arial"/>
                <a:cs typeface="Traditional Arabic"/>
              </a:rPr>
              <a:t>حساب معدل الوفيات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 u="sng">
                <a:solidFill>
                  <a:srgbClr val="ccecff"/>
                </a:solidFill>
                <a:uFillTx/>
                <a:latin typeface="Arial"/>
                <a:cs typeface="Traditional Arabic"/>
              </a:rPr>
              <a:t>عدد الوفيات </a:t>
            </a:r>
            <a:r>
              <a:rPr b="1" lang="en-US" sz="2800" spc="-1" strike="noStrike" u="sng">
                <a:solidFill>
                  <a:srgbClr val="ccecff"/>
                </a:solidFill>
                <a:uFillTx/>
                <a:latin typeface="Arial"/>
                <a:ea typeface="Traditional Arabic"/>
              </a:rPr>
              <a:t>x</a:t>
            </a:r>
            <a:r>
              <a:rPr b="1" lang="ar-EG" sz="2800" spc="-1" strike="noStrike" u="sng">
                <a:solidFill>
                  <a:srgbClr val="ccecff"/>
                </a:solidFill>
                <a:uFillTx/>
                <a:latin typeface="Arial"/>
                <a:ea typeface="Traditional Arabic"/>
              </a:rPr>
              <a:t> </a:t>
            </a:r>
            <a:r>
              <a:rPr b="1" lang="en-US" sz="2800" spc="-1" strike="noStrike" u="sng">
                <a:solidFill>
                  <a:srgbClr val="ccecff"/>
                </a:solidFill>
                <a:uFillTx/>
                <a:latin typeface="Arial"/>
                <a:ea typeface="Traditional Arabic"/>
              </a:rPr>
              <a:t>10.000</a:t>
            </a:r>
            <a:r>
              <a:rPr b="1" lang="ar-EG" sz="2800" spc="-1" strike="noStrike" u="sng">
                <a:solidFill>
                  <a:srgbClr val="ccecff"/>
                </a:solidFill>
                <a:uFillTx/>
                <a:latin typeface="Arial"/>
                <a:cs typeface="Traditional Arabic"/>
              </a:rPr>
              <a:t>يوميا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	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	</a:t>
            </a:r>
            <a:r>
              <a:rPr b="1" lang="ar-EG" sz="2800" spc="-1" strike="noStrike">
                <a:solidFill>
                  <a:srgbClr val="ccecff"/>
                </a:solidFill>
                <a:latin typeface="Arial"/>
                <a:cs typeface="Traditional Arabic"/>
              </a:rPr>
              <a:t>عدد الأيام خلال الفترة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X</a:t>
            </a:r>
            <a:r>
              <a:rPr b="1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 عدد السكان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ecff"/>
                </a:solidFill>
                <a:uFillTx/>
                <a:latin typeface="Arial"/>
                <a:ea typeface="Traditional Arabic"/>
              </a:rPr>
              <a:t>21</a:t>
            </a:r>
            <a:r>
              <a:rPr b="0" lang="ar-EG" sz="2800" spc="-1" strike="noStrike" u="sng">
                <a:solidFill>
                  <a:srgbClr val="ccecff"/>
                </a:solidFill>
                <a:uFillTx/>
                <a:latin typeface="Arial"/>
                <a:ea typeface="Traditional Arabic"/>
              </a:rPr>
              <a:t> (حالة وفاه)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ea typeface="Traditional Arabic"/>
              </a:rPr>
              <a:t>X</a:t>
            </a:r>
            <a:r>
              <a:rPr b="0" lang="ar-EG" sz="2800" spc="-1" strike="noStrike" u="sng">
                <a:solidFill>
                  <a:srgbClr val="ccecff"/>
                </a:solidFill>
                <a:uFillTx/>
                <a:latin typeface="Arial"/>
                <a:ea typeface="Traditional Arabic"/>
              </a:rPr>
              <a:t> 10.000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    </a:t>
            </a:r>
            <a:r>
              <a:rPr b="0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7</a:t>
            </a:r>
            <a:r>
              <a:rPr b="0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 (ايام )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X</a:t>
            </a:r>
            <a:r>
              <a:rPr b="0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 50.000</a:t>
            </a:r>
            <a:r>
              <a:rPr b="0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 (إجمالى عدد السكان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ccecff"/>
                </a:solidFill>
                <a:latin typeface="Arial"/>
                <a:cs typeface="Traditional Arabic"/>
              </a:rPr>
              <a:t>أو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533520" y="5410080"/>
            <a:ext cx="7848360" cy="676440"/>
          </a:xfrm>
          <a:prstGeom prst="rect">
            <a:avLst/>
          </a:prstGeom>
          <a:solidFill>
            <a:srgbClr val="ffff00"/>
          </a:soli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وفيات لكل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10.00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فى اليوم الواحد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A448-8701-43F8-AC77-62648537817A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15" name="Picture 2" descr="http://www.justmaps.org/maps/images/world-maps.gif"/>
          <p:cNvPicPr/>
          <p:nvPr/>
        </p:nvPicPr>
        <p:blipFill>
          <a:blip r:embed="rId1"/>
          <a:srcRect l="5990" t="0" r="8430" b="0"/>
          <a:stretch/>
        </p:blipFill>
        <p:spPr>
          <a:xfrm>
            <a:off x="152280" y="762120"/>
            <a:ext cx="8744040" cy="53337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2895480" y="6172200"/>
            <a:ext cx="580716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96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457200" y="76320"/>
            <a:ext cx="833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</a:t>
            </a:r>
            <a:r>
              <a:rPr b="1" i="1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لمستويات المرجعية للبيانات الخاصة بالوفيات حسب المناط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1143000" y="1905120"/>
            <a:ext cx="99072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raditional Arabic"/>
              </a:rPr>
              <a:t>0.2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4419720" y="1600200"/>
            <a:ext cx="99036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raditional Arabic"/>
              </a:rPr>
              <a:t>0.2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" name="Oval 8"/>
          <p:cNvSpPr/>
          <p:nvPr/>
        </p:nvSpPr>
        <p:spPr>
          <a:xfrm>
            <a:off x="7620120" y="4876920"/>
            <a:ext cx="99036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raditional Arabic"/>
              </a:rPr>
              <a:t>0.2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Oval 9"/>
          <p:cNvSpPr/>
          <p:nvPr/>
        </p:nvSpPr>
        <p:spPr>
          <a:xfrm>
            <a:off x="4343400" y="2743200"/>
            <a:ext cx="99072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raditional Arabic"/>
              </a:rPr>
              <a:t>0.1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4267080" y="3809880"/>
            <a:ext cx="9907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0.4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3" name="Oval 11"/>
          <p:cNvSpPr/>
          <p:nvPr/>
        </p:nvSpPr>
        <p:spPr>
          <a:xfrm>
            <a:off x="5943600" y="2971800"/>
            <a:ext cx="99072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raditional Arabic"/>
              </a:rPr>
              <a:t>0.2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4" name="Oval 12"/>
          <p:cNvSpPr/>
          <p:nvPr/>
        </p:nvSpPr>
        <p:spPr>
          <a:xfrm>
            <a:off x="7086600" y="3200400"/>
            <a:ext cx="99072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raditional Arabic"/>
              </a:rPr>
              <a:t>0.1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Oval 13"/>
          <p:cNvSpPr/>
          <p:nvPr/>
        </p:nvSpPr>
        <p:spPr>
          <a:xfrm>
            <a:off x="838080" y="2819520"/>
            <a:ext cx="990720" cy="5331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raditional Arabic"/>
              </a:rPr>
              <a:t>0.1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5257800" y="1905120"/>
            <a:ext cx="990720" cy="533160"/>
          </a:xfrm>
          <a:prstGeom prst="ellipse">
            <a:avLst/>
          </a:prstGeom>
          <a:solidFill>
            <a:srgbClr val="ffc0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raditional Arabic"/>
              </a:rPr>
              <a:t>0.3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" name="Oval 15"/>
          <p:cNvSpPr/>
          <p:nvPr/>
        </p:nvSpPr>
        <p:spPr>
          <a:xfrm>
            <a:off x="1523880" y="3733920"/>
            <a:ext cx="990720" cy="5331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raditional Arabic"/>
              </a:rPr>
              <a:t>0.2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3200400" y="4952880"/>
            <a:ext cx="2895480" cy="1295640"/>
          </a:xfrm>
          <a:prstGeom prst="ellipse">
            <a:avLst/>
          </a:prstGeom>
          <a:solidFill>
            <a:srgbClr val="92d05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raditional Arabic"/>
              </a:rPr>
              <a:t>0.25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توسط العالمى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FDFD-A139-4D4D-BF98-3B44F9F4A3D7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152280" y="228600"/>
            <a:ext cx="883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خدمات الصحة الأساسية – معيار مكافحة الأمراض المعدية رقم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وقاية من الأمراض المعدية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3962520" y="22096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نبغي أن يحصل الناس على المعلومات والخدمات الخاصة بالوقاية من الأمراض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عدية التي تسهم بشكل ملموس في الارتفاع الحاد في نسبة الاعتلال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الوفيات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.</a:t>
            </a:r>
            <a:r>
              <a:rPr b="0" lang="ar-SA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200400" y="5181480"/>
            <a:ext cx="565956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97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33" name="Picture 10" descr="pe-drc-pb0506-drc9"/>
          <p:cNvPicPr/>
          <p:nvPr/>
        </p:nvPicPr>
        <p:blipFill>
          <a:blip r:embed="rId1"/>
          <a:stretch/>
        </p:blipFill>
        <p:spPr>
          <a:xfrm>
            <a:off x="457200" y="2133720"/>
            <a:ext cx="3124080" cy="36352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1"/>
          <p:cNvSpPr/>
          <p:nvPr/>
        </p:nvSpPr>
        <p:spPr>
          <a:xfrm>
            <a:off x="19440" y="5867280"/>
            <a:ext cx="301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ccecff"/>
                </a:solidFill>
                <a:latin typeface="Arial"/>
                <a:cs typeface="Traditional Arabic"/>
              </a:rPr>
              <a:t>حقوق طبع الصورة للجنة الدولية للإنقاذ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AC0F-6E14-446C-AB7F-05E711FD5526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36" name="Picture 1026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4521240" cy="60199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027"/>
          <p:cNvSpPr/>
          <p:nvPr/>
        </p:nvSpPr>
        <p:spPr>
          <a:xfrm>
            <a:off x="0" y="1447920"/>
            <a:ext cx="4054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ccecff"/>
                </a:solidFill>
                <a:latin typeface="Arial"/>
                <a:cs typeface="Traditional Arabic"/>
              </a:rPr>
              <a:t>صورة من أمام مرفق صح</a:t>
            </a:r>
            <a:r>
              <a:rPr b="0" lang="ar-SA" sz="3200" spc="-1" strike="noStrike">
                <a:solidFill>
                  <a:srgbClr val="ccecff"/>
                </a:solidFill>
                <a:latin typeface="Arial"/>
                <a:cs typeface="Traditional Arabic"/>
              </a:rPr>
              <a:t>ي في</a:t>
            </a:r>
            <a:r>
              <a:rPr b="0" lang="ar-EG" sz="3200" spc="-1" strike="noStrike">
                <a:solidFill>
                  <a:srgbClr val="ccecff"/>
                </a:solidFill>
                <a:latin typeface="Arial"/>
                <a:ea typeface="Traditional Arabic"/>
              </a:rPr>
              <a:t> كابول مشارك </a:t>
            </a:r>
            <a:r>
              <a:rPr b="0" lang="ar-SA" sz="3200" spc="-1" strike="noStrike">
                <a:solidFill>
                  <a:srgbClr val="ccecff"/>
                </a:solidFill>
                <a:latin typeface="Arial"/>
                <a:cs typeface="Traditional Arabic"/>
              </a:rPr>
              <a:t>في </a:t>
            </a:r>
            <a:r>
              <a:rPr b="0" lang="ar-EG" sz="3200" spc="-1" strike="noStrike">
                <a:solidFill>
                  <a:srgbClr val="ccecff"/>
                </a:solidFill>
                <a:latin typeface="Arial"/>
                <a:cs typeface="Traditional Arabic"/>
              </a:rPr>
              <a:t>حملة تدعمها منظمة اليونيسيف للتطعيم ضد مرض الحصبة</a:t>
            </a:r>
            <a:r>
              <a:rPr b="0" lang="ar-SA" sz="3200" spc="-1" strike="noStrike">
                <a:solidFill>
                  <a:srgbClr val="ccecff"/>
                </a:solidFill>
                <a:latin typeface="Arial"/>
                <a:ea typeface="Traditional Arabic"/>
              </a:rPr>
              <a:t> تُقدم</a:t>
            </a:r>
            <a:r>
              <a:rPr b="0" lang="ar-EG" sz="3200" spc="-1" strike="noStrike">
                <a:solidFill>
                  <a:srgbClr val="ccecff"/>
                </a:solidFill>
                <a:latin typeface="Arial"/>
                <a:ea typeface="Traditional Arabic"/>
              </a:rPr>
              <a:t> إعلان</a:t>
            </a:r>
            <a:r>
              <a:rPr b="0" lang="ar-SA" sz="3200" spc="-1" strike="noStrike">
                <a:solidFill>
                  <a:srgbClr val="ccecff"/>
                </a:solidFill>
                <a:latin typeface="Arial"/>
                <a:cs typeface="Traditional Arabic"/>
              </a:rPr>
              <a:t>ا</a:t>
            </a:r>
            <a:r>
              <a:rPr b="0" lang="ar-EG" sz="3200" spc="-1" strike="noStrike">
                <a:solidFill>
                  <a:srgbClr val="ccecff"/>
                </a:solidFill>
                <a:latin typeface="Arial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ccecff"/>
                </a:solidFill>
                <a:latin typeface="Arial"/>
                <a:cs typeface="Traditional Arabic"/>
              </a:rPr>
              <a:t>عن</a:t>
            </a:r>
            <a:r>
              <a:rPr b="0" lang="ar-EG" sz="3200" spc="-1" strike="noStrike">
                <a:solidFill>
                  <a:srgbClr val="ccecff"/>
                </a:solidFill>
                <a:latin typeface="Arial"/>
                <a:ea typeface="Traditional Arabic"/>
              </a:rPr>
              <a:t> توجيهات للأسر التي تسعى لتطعيم أطفالها</a:t>
            </a:r>
            <a:r>
              <a:rPr b="0" lang="ar-SA" sz="3200" spc="-1" strike="noStrike">
                <a:solidFill>
                  <a:srgbClr val="ccecff"/>
                </a:solidFill>
                <a:latin typeface="Arial"/>
                <a:ea typeface="Traditional Arabic"/>
              </a:rPr>
              <a:t>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3682080" y="62485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حقوق طبع الصورة لمنظمة اليونيسيف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8216-0873-4B62-A306-E9253A8D0684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52280" y="304920"/>
            <a:ext cx="883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خدمات الصحة الأساسية – معيار مكافحة الأمراض المعدية رقم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شخيص الأمراض المعدية وإدارة حالات الإصابة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4876920" y="19051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نبغي أن يحصل الناس على تشخيص وعلاج فعليين للأمراض المعدية التي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سهم بشكل ملموس في الارتفاع المفرط لنسبة الأمراض والوفيات التي يمكن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فاديها.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752480" y="5029200"/>
            <a:ext cx="739152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99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-144720" y="5715000"/>
            <a:ext cx="278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ccecff"/>
                </a:solidFill>
                <a:latin typeface="Arial"/>
                <a:cs typeface="Traditional Arabic"/>
              </a:rPr>
              <a:t>الهند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  <a:ea typeface="Traditional Arabic"/>
              </a:rPr>
              <a:t>- NIRPHAD </a:t>
            </a:r>
            <a:r>
              <a:rPr b="0" lang="ar-EG" sz="1400" spc="-1" strike="noStrike">
                <a:solidFill>
                  <a:srgbClr val="ccecff"/>
                </a:solidFill>
                <a:latin typeface="Arial"/>
                <a:cs typeface="Traditional Arabic"/>
              </a:rPr>
              <a:t>صورة من مشروع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44" name="Picture 9" descr="CHECK_UP2"/>
          <p:cNvPicPr/>
          <p:nvPr/>
        </p:nvPicPr>
        <p:blipFill>
          <a:blip r:embed="rId1"/>
          <a:stretch/>
        </p:blipFill>
        <p:spPr>
          <a:xfrm>
            <a:off x="152280" y="236232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82"/>
          <p:cNvSpPr/>
          <p:nvPr/>
        </p:nvSpPr>
        <p:spPr>
          <a:xfrm>
            <a:off x="8229600" y="1828800"/>
            <a:ext cx="0" cy="457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Straight Connector 93"/>
          <p:cNvSpPr/>
          <p:nvPr/>
        </p:nvSpPr>
        <p:spPr>
          <a:xfrm>
            <a:off x="6705720" y="2438280"/>
            <a:ext cx="0" cy="2210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Straight Connector 94"/>
          <p:cNvSpPr/>
          <p:nvPr/>
        </p:nvSpPr>
        <p:spPr>
          <a:xfrm>
            <a:off x="5486400" y="228600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Straight Connector 95"/>
          <p:cNvSpPr/>
          <p:nvPr/>
        </p:nvSpPr>
        <p:spPr>
          <a:xfrm>
            <a:off x="4191120" y="228600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Straight Connector 96"/>
          <p:cNvSpPr/>
          <p:nvPr/>
        </p:nvSpPr>
        <p:spPr>
          <a:xfrm flipH="1">
            <a:off x="2895120" y="2286000"/>
            <a:ext cx="1116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Straight Connector 98"/>
          <p:cNvSpPr/>
          <p:nvPr/>
        </p:nvSpPr>
        <p:spPr>
          <a:xfrm flipH="1">
            <a:off x="1752120" y="2286000"/>
            <a:ext cx="1116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2590920" y="228600"/>
            <a:ext cx="4114800" cy="609480"/>
          </a:xfrm>
          <a:prstGeom prst="rect">
            <a:avLst/>
          </a:prstGeom>
          <a:solidFill>
            <a:srgbClr val="0066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عمل الصح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6553080" y="1295280"/>
            <a:ext cx="2286000" cy="533520"/>
          </a:xfrm>
          <a:prstGeom prst="rect">
            <a:avLst/>
          </a:prstGeom>
          <a:solidFill>
            <a:srgbClr val="00e5e5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Arial"/>
                <a:ea typeface="Traditional Arabic"/>
              </a:rPr>
              <a:t>      نظم الصحة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533520" y="1295280"/>
            <a:ext cx="2590560" cy="533520"/>
          </a:xfrm>
          <a:prstGeom prst="rect">
            <a:avLst/>
          </a:prstGeom>
          <a:solidFill>
            <a:srgbClr val="00e5e5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Arial"/>
                <a:ea typeface="Traditional Arabic"/>
              </a:rPr>
              <a:t> خدمات الصحة الأساسية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Line 33"/>
          <p:cNvSpPr/>
          <p:nvPr/>
        </p:nvSpPr>
        <p:spPr>
          <a:xfrm flipV="1">
            <a:off x="4648320" y="8380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Freeform 35"/>
          <p:cNvSpPr/>
          <p:nvPr/>
        </p:nvSpPr>
        <p:spPr>
          <a:xfrm>
            <a:off x="2209680" y="990720"/>
            <a:ext cx="5715000" cy="304560"/>
          </a:xfrm>
          <a:custGeom>
            <a:avLst/>
            <a:gdLst>
              <a:gd name="textAreaLeft" fmla="*/ 0 w 5715000"/>
              <a:gd name="textAreaRight" fmla="*/ 5715000 w 5715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3744" h="144">
                <a:moveTo>
                  <a:pt x="0" y="144"/>
                </a:moveTo>
                <a:lnTo>
                  <a:pt x="0" y="0"/>
                </a:lnTo>
                <a:lnTo>
                  <a:pt x="3744" y="0"/>
                </a:lnTo>
                <a:lnTo>
                  <a:pt x="3744" y="144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Text Box 37"/>
          <p:cNvSpPr/>
          <p:nvPr/>
        </p:nvSpPr>
        <p:spPr>
          <a:xfrm>
            <a:off x="2209680" y="518148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raditional Arabic"/>
              </a:rPr>
              <a:t>276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3276720" y="1523880"/>
            <a:ext cx="14475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raditional Arabic"/>
              </a:rPr>
              <a:t>أولوية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خدمات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6248520" y="2590920"/>
            <a:ext cx="979200" cy="533160"/>
          </a:xfrm>
          <a:prstGeom prst="rect">
            <a:avLst/>
          </a:prstGeom>
          <a:solidFill>
            <a:srgbClr val="00e5e5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أمراض المعدية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5029200" y="2666880"/>
            <a:ext cx="979560" cy="533520"/>
          </a:xfrm>
          <a:prstGeom prst="rect">
            <a:avLst/>
          </a:prstGeom>
          <a:solidFill>
            <a:srgbClr val="00e5e5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صحة الطفل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3733920" y="2666880"/>
            <a:ext cx="977760" cy="533520"/>
          </a:xfrm>
          <a:prstGeom prst="rect">
            <a:avLst/>
          </a:prstGeom>
          <a:solidFill>
            <a:srgbClr val="00e5e5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صحة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جنسية والإنجابية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2438280" y="2666880"/>
            <a:ext cx="979560" cy="533520"/>
          </a:xfrm>
          <a:prstGeom prst="rect">
            <a:avLst/>
          </a:prstGeom>
          <a:solidFill>
            <a:srgbClr val="00e5e5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إصابات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1295280" y="2666880"/>
            <a:ext cx="979560" cy="533520"/>
          </a:xfrm>
          <a:prstGeom prst="rect">
            <a:avLst/>
          </a:prstGeom>
          <a:solidFill>
            <a:srgbClr val="00e5e5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صحة العقلية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152280" y="2666880"/>
            <a:ext cx="979560" cy="533520"/>
          </a:xfrm>
          <a:prstGeom prst="rect">
            <a:avLst/>
          </a:prstGeom>
          <a:solidFill>
            <a:srgbClr val="00e5e5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أمراض غير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معدية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6324480" y="3276720"/>
            <a:ext cx="9795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raditional Arabic"/>
              </a:rPr>
              <a:t>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Rectangle 43"/>
          <p:cNvSpPr/>
          <p:nvPr/>
        </p:nvSpPr>
        <p:spPr>
          <a:xfrm>
            <a:off x="5029200" y="3352680"/>
            <a:ext cx="979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raditional Arabic"/>
              </a:rPr>
              <a:t>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Rectangle 44"/>
          <p:cNvSpPr/>
          <p:nvPr/>
        </p:nvSpPr>
        <p:spPr>
          <a:xfrm>
            <a:off x="3733920" y="3352680"/>
            <a:ext cx="9777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raditional Arabic"/>
              </a:rPr>
              <a:t>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Rectangle 45"/>
          <p:cNvSpPr/>
          <p:nvPr/>
        </p:nvSpPr>
        <p:spPr>
          <a:xfrm>
            <a:off x="2438280" y="3352680"/>
            <a:ext cx="979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raditional Arabic"/>
              </a:rPr>
              <a:t>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Rectangle 46"/>
          <p:cNvSpPr/>
          <p:nvPr/>
        </p:nvSpPr>
        <p:spPr>
          <a:xfrm>
            <a:off x="1295280" y="3352680"/>
            <a:ext cx="979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raditional Arabic"/>
              </a:rPr>
              <a:t>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Rectangle 47"/>
          <p:cNvSpPr/>
          <p:nvPr/>
        </p:nvSpPr>
        <p:spPr>
          <a:xfrm>
            <a:off x="152280" y="3352680"/>
            <a:ext cx="979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raditional Arabic"/>
              </a:rPr>
              <a:t>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6248520" y="3962520"/>
            <a:ext cx="979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raditional Arabic"/>
              </a:rPr>
              <a:t>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5029200" y="4038480"/>
            <a:ext cx="979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raditional Arabic"/>
              </a:rPr>
              <a:t>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Rectangle 52"/>
          <p:cNvSpPr/>
          <p:nvPr/>
        </p:nvSpPr>
        <p:spPr>
          <a:xfrm>
            <a:off x="3733920" y="4038480"/>
            <a:ext cx="9777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raditional Arabic"/>
              </a:rPr>
              <a:t>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Rectangle 58"/>
          <p:cNvSpPr/>
          <p:nvPr/>
        </p:nvSpPr>
        <p:spPr>
          <a:xfrm>
            <a:off x="6248520" y="4648320"/>
            <a:ext cx="979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raditional Arabic"/>
              </a:rPr>
              <a:t>3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Picture 7" descr="http://practicalaction.org/image/Book%20covers/The_Sphere_Project_cover_fab_test-thumbnail.png"/>
          <p:cNvPicPr/>
          <p:nvPr/>
        </p:nvPicPr>
        <p:blipFill>
          <a:blip r:embed="rId1"/>
          <a:stretch/>
        </p:blipFill>
        <p:spPr>
          <a:xfrm rot="921000">
            <a:off x="582480" y="4484520"/>
            <a:ext cx="1171800" cy="1683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8" name="Rectangle 31"/>
          <p:cNvSpPr/>
          <p:nvPr/>
        </p:nvSpPr>
        <p:spPr>
          <a:xfrm>
            <a:off x="7772400" y="2590920"/>
            <a:ext cx="9795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raditional Arabic"/>
              </a:rPr>
              <a:t>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Rectangle 41"/>
          <p:cNvSpPr/>
          <p:nvPr/>
        </p:nvSpPr>
        <p:spPr>
          <a:xfrm>
            <a:off x="7772400" y="3276720"/>
            <a:ext cx="9795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raditional Arabic"/>
              </a:rPr>
              <a:t>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Rectangle 49"/>
          <p:cNvSpPr/>
          <p:nvPr/>
        </p:nvSpPr>
        <p:spPr>
          <a:xfrm>
            <a:off x="7772400" y="3962520"/>
            <a:ext cx="9795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raditional Arabic"/>
              </a:rPr>
              <a:t>3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Rectangle 57"/>
          <p:cNvSpPr/>
          <p:nvPr/>
        </p:nvSpPr>
        <p:spPr>
          <a:xfrm>
            <a:off x="7772400" y="4648320"/>
            <a:ext cx="9795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raditional Arabic"/>
              </a:rPr>
              <a:t>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7772400" y="5334120"/>
            <a:ext cx="9795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raditional Arabic"/>
              </a:rPr>
              <a:t>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Rectangle 73"/>
          <p:cNvSpPr/>
          <p:nvPr/>
        </p:nvSpPr>
        <p:spPr>
          <a:xfrm>
            <a:off x="7772400" y="6019920"/>
            <a:ext cx="9795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raditional Arabic"/>
              </a:rPr>
              <a:t>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cxnSp>
        <p:nvCxnSpPr>
          <p:cNvPr id="134" name="Elbow Connector 91"/>
          <p:cNvCxnSpPr/>
          <p:nvPr/>
        </p:nvCxnSpPr>
        <p:spPr>
          <a:xfrm flipH="1" flipV="1" rot="5400000">
            <a:off x="3566160" y="-596160"/>
            <a:ext cx="13320" cy="6233400"/>
          </a:xfrm>
          <a:prstGeom prst="bentConnector3">
            <a:avLst>
              <a:gd name="adj1" fmla="val 1800000"/>
            </a:avLst>
          </a:prstGeom>
          <a:ln w="38160">
            <a:solidFill>
              <a:srgbClr val="ffffff"/>
            </a:solidFill>
            <a:round/>
          </a:ln>
        </p:spPr>
      </p:cxnSp>
      <p:sp>
        <p:nvSpPr>
          <p:cNvPr id="135" name="TextBox 99"/>
          <p:cNvSpPr/>
          <p:nvPr/>
        </p:nvSpPr>
        <p:spPr>
          <a:xfrm>
            <a:off x="2352240" y="6091200"/>
            <a:ext cx="69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ينقسم بشكل أساسي إلى موضوعين رئيسيي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cxnSp>
        <p:nvCxnSpPr>
          <p:cNvPr id="136" name="Shape 66"/>
          <p:cNvCxnSpPr>
            <a:stCxn id="106" idx="2"/>
          </p:cNvCxnSpPr>
          <p:nvPr/>
        </p:nvCxnSpPr>
        <p:spPr>
          <a:xfrm flipH="1" rot="16200000">
            <a:off x="2475360" y="1180800"/>
            <a:ext cx="229320" cy="1524600"/>
          </a:xfrm>
          <a:prstGeom prst="bentConnector2">
            <a:avLst/>
          </a:prstGeom>
          <a:ln w="38160">
            <a:solidFill>
              <a:srgbClr val="ffffff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EE05-5BCF-4A82-8F97-3A29C43D493A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304920" y="1810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خدمات الصحة الأساسية – معيار مكافحة الأمراض المعدية رقم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كشف عن حالات تفشي الأمراض ومكافحتها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5486400" y="2133720"/>
            <a:ext cx="3124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ينبغي التأهب لاحتمالات تفشي الأمراض والكشف عنها وبيان أسبابها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ومكافحتها بسرعة وبطريقة فعالة.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 </a:t>
            </a:r>
            <a:r>
              <a:rPr b="0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4648320" y="4800600"/>
            <a:ext cx="434340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301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57200" y="518148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ccecff"/>
                </a:solidFill>
                <a:latin typeface="Arial"/>
                <a:cs typeface="Traditional Arabic"/>
              </a:rPr>
              <a:t>بنجلاديش تنظم أضخم حملة قومية للتطعيم ضد مرض الحصبة- منظمة الصحة العالمية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0" name="Picture 8" descr="9_measles_mobilized"/>
          <p:cNvPicPr/>
          <p:nvPr/>
        </p:nvPicPr>
        <p:blipFill>
          <a:blip r:embed="rId1"/>
          <a:stretch/>
        </p:blipFill>
        <p:spPr>
          <a:xfrm>
            <a:off x="533520" y="2057400"/>
            <a:ext cx="40384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A3AD-5C28-4084-857F-FDB2D3E082EF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152280" y="7632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خدمات الصحة الأساسية – معيار صحة الطفل رقم </a:t>
            </a:r>
            <a:r>
              <a:rPr b="1" lang="ar-AE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1" lang="ar-AE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 تفادي الإصابة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1" lang="ar-AE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بالأمراض التي يمكن الوقاية منها بالتلقيح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04920" y="1828800"/>
            <a:ext cx="4952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ينبغي تحصين جميع الأطفال الذين يتراوح سنهم بين 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6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أشهر و 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15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سنة ضد</a:t>
            </a:r>
            <a:r>
              <a:rPr b="0" lang="ar-SA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الحصبة، وينبغي أن يحصلوا على الخدمات الدورية لبرنامج التحصين الموّسع ما</a:t>
            </a:r>
            <a:r>
              <a:rPr b="0" lang="ar-SA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أن يستقر الوضع.</a:t>
            </a:r>
            <a:r>
              <a:rPr b="0" lang="ar-EG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762120" y="4876920"/>
            <a:ext cx="464796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306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5" name="Picture 11" descr="http://2.bp.blogspot.com/-fJ3YNLUiX5w/TuIHcxcvJDI/AAAAAAAACsc/1hmgvXo0pHs/s1600/Measles++-+Incubation%252C+Cause%252C+Sign%252C+Symptoms%252C+Diagnosis%252C+Prevention%252C+Treatments++child.jpg"/>
          <p:cNvPicPr/>
          <p:nvPr/>
        </p:nvPicPr>
        <p:blipFill>
          <a:blip r:embed="rId1"/>
          <a:stretch/>
        </p:blipFill>
        <p:spPr>
          <a:xfrm>
            <a:off x="5638680" y="1828800"/>
            <a:ext cx="2810160" cy="32767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0"/>
          <p:cNvSpPr/>
          <p:nvPr/>
        </p:nvSpPr>
        <p:spPr>
          <a:xfrm>
            <a:off x="5715000" y="52578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طفل مصاب بمرض الحصبة – لصورة من مركز مكافحة الأمراض والوقاية منها</a:t>
            </a:r>
            <a:r>
              <a:rPr b="0" lang="ar-SA" sz="1800" spc="-1" strike="noStrike">
                <a:solidFill>
                  <a:srgbClr val="ccecff"/>
                </a:solidFill>
                <a:latin typeface="Arial"/>
                <a:ea typeface="Traditional Arabic"/>
              </a:rPr>
              <a:t>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0000cc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A05F-52C8-4B2E-BFBB-EDB7DA98B709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228600" y="228600"/>
            <a:ext cx="861048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5200" spc="-1" strike="noStrike">
                <a:solidFill>
                  <a:srgbClr val="ccecff"/>
                </a:solidFill>
                <a:latin typeface="Arial"/>
                <a:cs typeface="Traditional Arabic"/>
              </a:rPr>
              <a:t>طفح جلدي </a:t>
            </a:r>
            <a:r>
              <a:rPr b="0" lang="ar-SA" sz="5200" spc="-1" strike="noStrike">
                <a:solidFill>
                  <a:srgbClr val="ccecff"/>
                </a:solidFill>
                <a:latin typeface="Arial"/>
                <a:cs typeface="Traditional Arabic"/>
              </a:rPr>
              <a:t>يتفشى</a:t>
            </a:r>
            <a:r>
              <a:rPr b="0" lang="ar-EG" sz="5200" spc="-1" strike="noStrike">
                <a:solidFill>
                  <a:srgbClr val="ccecff"/>
                </a:solidFill>
                <a:latin typeface="Arial"/>
                <a:ea typeface="Traditional Arabic"/>
              </a:rPr>
              <a:t> </a:t>
            </a:r>
            <a:r>
              <a:rPr b="0" lang="ar-SA" sz="5200" spc="-1" strike="noStrike">
                <a:solidFill>
                  <a:srgbClr val="ccecff"/>
                </a:solidFill>
                <a:latin typeface="Arial"/>
                <a:cs typeface="Traditional Arabic"/>
              </a:rPr>
              <a:t>و</a:t>
            </a:r>
            <a:r>
              <a:rPr b="0" lang="ar-EG" sz="5200" spc="-1" strike="noStrike">
                <a:solidFill>
                  <a:srgbClr val="ccecff"/>
                </a:solidFill>
                <a:latin typeface="Arial"/>
                <a:cs typeface="Traditional Arabic"/>
              </a:rPr>
              <a:t>يستمر لأكثر من </a:t>
            </a:r>
            <a:r>
              <a:rPr b="0" lang="ar-EG" sz="5200" spc="-1" strike="noStrike">
                <a:solidFill>
                  <a:srgbClr val="ccecff"/>
                </a:solidFill>
                <a:latin typeface="Arial"/>
                <a:ea typeface="Traditional Arabic"/>
              </a:rPr>
              <a:t>3</a:t>
            </a:r>
            <a:r>
              <a:rPr b="0" lang="ar-EG" sz="5200" spc="-1" strike="noStrike">
                <a:solidFill>
                  <a:srgbClr val="ccecff"/>
                </a:solidFill>
                <a:latin typeface="Arial"/>
                <a:ea typeface="Traditional Arabic"/>
              </a:rPr>
              <a:t> أيام و</a:t>
            </a:r>
            <a:r>
              <a:rPr b="0" lang="ar-SA" sz="5200" spc="-1" strike="noStrike">
                <a:solidFill>
                  <a:srgbClr val="ccecff"/>
                </a:solidFill>
                <a:latin typeface="Arial"/>
                <a:cs typeface="Traditional Arabic"/>
              </a:rPr>
              <a:t>ترتفع </a:t>
            </a:r>
            <a:r>
              <a:rPr b="0" lang="ar-EG" sz="5200" spc="-1" strike="noStrike">
                <a:solidFill>
                  <a:srgbClr val="ccecff"/>
                </a:solidFill>
                <a:latin typeface="Arial"/>
                <a:cs typeface="Traditional Arabic"/>
              </a:rPr>
              <a:t>درجة </a:t>
            </a:r>
            <a:r>
              <a:rPr b="0" lang="ar-SA" sz="5200" spc="-1" strike="noStrike">
                <a:solidFill>
                  <a:srgbClr val="ccecff"/>
                </a:solidFill>
                <a:latin typeface="Arial"/>
                <a:cs typeface="Traditional Arabic"/>
              </a:rPr>
              <a:t>ح</a:t>
            </a:r>
            <a:r>
              <a:rPr b="0" lang="ar-EG" sz="5200" spc="-1" strike="noStrike">
                <a:solidFill>
                  <a:srgbClr val="ccecff"/>
                </a:solidFill>
                <a:latin typeface="Arial"/>
                <a:cs typeface="Traditional Arabic"/>
              </a:rPr>
              <a:t>رارة الجسم أكثر من </a:t>
            </a:r>
            <a:r>
              <a:rPr b="0" lang="ar-EG" sz="5200" spc="-1" strike="noStrike">
                <a:solidFill>
                  <a:srgbClr val="ccecff"/>
                </a:solidFill>
                <a:latin typeface="Arial"/>
                <a:ea typeface="Traditional Arabic"/>
              </a:rPr>
              <a:t>38</a:t>
            </a:r>
            <a:r>
              <a:rPr b="0" lang="ar-EG" sz="5200" spc="-1" strike="noStrike">
                <a:solidFill>
                  <a:srgbClr val="ccecff"/>
                </a:solidFill>
                <a:latin typeface="Arial"/>
                <a:ea typeface="Traditional Arabic"/>
              </a:rPr>
              <a:t> درجة مئوية يصاحبها سعال، ورشح ف</a:t>
            </a:r>
            <a:r>
              <a:rPr b="0" lang="ar-SA" sz="5200" spc="-1" strike="noStrike">
                <a:solidFill>
                  <a:srgbClr val="ccecff"/>
                </a:solidFill>
                <a:latin typeface="Arial"/>
                <a:cs typeface="Traditional Arabic"/>
              </a:rPr>
              <a:t>ي</a:t>
            </a:r>
            <a:r>
              <a:rPr b="0" lang="ar-EG" sz="5200" spc="-1" strike="noStrike">
                <a:solidFill>
                  <a:srgbClr val="ccecff"/>
                </a:solidFill>
                <a:latin typeface="Arial"/>
                <a:ea typeface="Traditional Arabic"/>
              </a:rPr>
              <a:t> الأنف أو احمرار العين</a:t>
            </a:r>
            <a:endParaRPr b="0" lang="en-US" sz="5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457200" y="380880"/>
            <a:ext cx="8153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200" spc="-1" strike="noStrike">
                <a:solidFill>
                  <a:srgbClr val="ffff00"/>
                </a:solidFill>
                <a:latin typeface="Arial"/>
                <a:cs typeface="Traditional Arabic"/>
              </a:rPr>
              <a:t>مزيد من المصطلحات: الحصبة</a:t>
            </a:r>
            <a:endParaRPr b="0" lang="en-US" sz="4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078A-E969-485C-ABF0-96C946E81B8E}" type="datetime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07/31/26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5633-8CD6-4246-A8BA-DA3CE14803F0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63" name="Picture 5" descr="Graphic: Characteristics of Measles"/>
          <p:cNvPicPr/>
          <p:nvPr/>
        </p:nvPicPr>
        <p:blipFill>
          <a:blip r:embed="rId1"/>
          <a:srcRect l="0" t="9573" r="0" b="6382"/>
          <a:stretch/>
        </p:blipFill>
        <p:spPr>
          <a:xfrm>
            <a:off x="1219320" y="380880"/>
            <a:ext cx="6646680" cy="62596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4297320" y="6095880"/>
            <a:ext cx="42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حقوق طبع الصورة ل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raditional Arabic"/>
              </a:rPr>
              <a:t>CDC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ea typeface="Traditional Arabic"/>
              </a:rPr>
              <a:t> – نيويورك تايمز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143000" y="609480"/>
            <a:ext cx="1828800" cy="31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0" lang="ar-EG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 ينتشر الفيروس عن طريق استنشاق الرزاز المحمل بالفيروس أو عن طريق ملامسة الأسطح الملوثة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990720" y="2743200"/>
            <a:ext cx="1828800" cy="23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.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نمو الفيروس</a:t>
            </a:r>
            <a:r>
              <a:rPr b="0" lang="ar-EG" sz="1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ي الخلايا التي تقع خلف الحلق والرئتين وتظهر أعراض المرض في غضون ما بين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0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إلى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2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وما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TextBox 8"/>
          <p:cNvSpPr/>
          <p:nvPr/>
        </p:nvSpPr>
        <p:spPr>
          <a:xfrm>
            <a:off x="838080" y="4800600"/>
            <a:ext cx="221004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</a:t>
            </a:r>
            <a:r>
              <a:rPr b="0" lang="ar-EG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 يعانى الشخص المصاب بارتفاع في درجة الحرارة تستمر لفترة ما بين يومين إلى أربعة أيام يتبعها رشح في الأنف واحمرار وحرقان في العين 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6095880" y="609480"/>
            <a:ext cx="198144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4</a:t>
            </a:r>
            <a:r>
              <a:rPr b="0" lang="ar-EG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 طفح يستمر لفترة تمتد ما بين خمسة إلى ستة أيام، وتظهر على الوجه والجبهة وتنتشر إلى الجذع وإلى اليدين والقدمين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6095880" y="2971800"/>
            <a:ext cx="167652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0" lang="ar-EG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 يمكن أن ينتقل الفيروس قبل أربعة أيام قبيل ظهور الطفح الجلدي وأربعة أيام بعد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ذلك.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5E2F-FCA8-4A7E-B9DA-C3C84B518479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105520" y="30456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cffff"/>
                </a:solidFill>
                <a:latin typeface="Tahoma"/>
                <a:cs typeface="Traditional Arabic"/>
              </a:rPr>
              <a:t>طفح جلدي بسبب الحصبة - اليوم الأول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6324480" y="1066680"/>
            <a:ext cx="2281320" cy="30258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4"/>
          <p:cNvSpPr/>
          <p:nvPr/>
        </p:nvSpPr>
        <p:spPr>
          <a:xfrm>
            <a:off x="6324480" y="1066680"/>
            <a:ext cx="2271960" cy="3022560"/>
          </a:xfrm>
          <a:prstGeom prst="rect">
            <a:avLst/>
          </a:prstGeom>
          <a:noFill/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2"/>
          <a:stretch/>
        </p:blipFill>
        <p:spPr>
          <a:xfrm>
            <a:off x="1295280" y="762120"/>
            <a:ext cx="2743200" cy="25905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6"/>
          <p:cNvSpPr/>
          <p:nvPr/>
        </p:nvSpPr>
        <p:spPr>
          <a:xfrm>
            <a:off x="914400" y="30492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ccffff"/>
                </a:solidFill>
                <a:latin typeface="Tahoma"/>
                <a:cs typeface="Traditional Arabic"/>
              </a:rPr>
              <a:t>بقع كوبليك بسبب الحصبة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76" name="Picture 7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540240" cy="32767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8"/>
          <p:cNvSpPr/>
          <p:nvPr/>
        </p:nvSpPr>
        <p:spPr>
          <a:xfrm>
            <a:off x="2666880" y="3200400"/>
            <a:ext cx="3535560" cy="3276720"/>
          </a:xfrm>
          <a:prstGeom prst="rect">
            <a:avLst/>
          </a:prstGeom>
          <a:noFill/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4419720" y="5334120"/>
            <a:ext cx="4724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طفح جلدي بسبب الحصبة - اليوم الثان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9AE3-A04A-48E9-BE9F-48DC140377C7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2590920" y="1066680"/>
            <a:ext cx="3809880" cy="762120"/>
          </a:xfrm>
          <a:prstGeom prst="rect">
            <a:avLst/>
          </a:prstGeom>
          <a:solidFill>
            <a:srgbClr val="eaec5e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ahoma"/>
                <a:cs typeface="Traditional Arabic"/>
              </a:rPr>
              <a:t>فيتامين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Traditional Arabic"/>
              </a:rPr>
              <a:t>”أ“</a:t>
            </a:r>
            <a:r>
              <a:rPr b="1" lang="ar-EG" sz="2800" spc="-1" strike="noStrike">
                <a:solidFill>
                  <a:srgbClr val="ffffff"/>
                </a:solidFill>
                <a:latin typeface="Tahoma"/>
                <a:ea typeface="Traditional Arabic"/>
              </a:rPr>
              <a:t> ومرض الحصبة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790960" y="2285640"/>
            <a:ext cx="2786040" cy="243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Tahoma"/>
                <a:cs typeface="Traditional Arabic"/>
              </a:rPr>
              <a:t>الحصبة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Tahoma"/>
                <a:cs typeface="Traditional Arabic"/>
              </a:rPr>
              <a:t>تكشف عن نقص فيتامين  </a:t>
            </a:r>
            <a:r>
              <a:rPr b="1" lang="ar-SA" sz="2800" spc="-1" strike="noStrike">
                <a:solidFill>
                  <a:srgbClr val="ffff00"/>
                </a:solidFill>
                <a:latin typeface="Tahoma"/>
                <a:ea typeface="Traditional Arabic"/>
              </a:rPr>
              <a:t>”أ“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16080" y="317520"/>
            <a:ext cx="8511840" cy="6235560"/>
          </a:xfrm>
          <a:prstGeom prst="rect">
            <a:avLst/>
          </a:prstGeom>
          <a:noFill/>
          <a:ln w="2556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2889360" y="914400"/>
            <a:ext cx="336528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2743200" y="1143000"/>
            <a:ext cx="3733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فعول التآزر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762120" y="2895480"/>
            <a:ext cx="3581280" cy="2221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نقص فيتامي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”أ“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(حتى </a:t>
            </a:r>
            <a:r>
              <a:rPr b="0" lang="ar-EG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غير الظاهري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)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يزيد من معدلات الاعتلال والوفيات </a:t>
            </a:r>
            <a:r>
              <a:rPr b="0" lang="ar-EG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جراء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إصابات بالحصب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7" name="AutoShape 11"/>
          <p:cNvSpPr/>
          <p:nvPr/>
        </p:nvSpPr>
        <p:spPr>
          <a:xfrm>
            <a:off x="4419720" y="4038480"/>
            <a:ext cx="1342800" cy="520920"/>
          </a:xfrm>
          <a:prstGeom prst="rightArrow">
            <a:avLst>
              <a:gd name="adj1" fmla="val 50000"/>
              <a:gd name="adj2" fmla="val 128899"/>
            </a:avLst>
          </a:prstGeom>
          <a:solidFill>
            <a:srgbClr val="ffff00"/>
          </a:soli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AutoShape 12"/>
          <p:cNvSpPr/>
          <p:nvPr/>
        </p:nvSpPr>
        <p:spPr>
          <a:xfrm flipH="1">
            <a:off x="4342680" y="2743200"/>
            <a:ext cx="1343160" cy="520560"/>
          </a:xfrm>
          <a:prstGeom prst="rightArrow">
            <a:avLst>
              <a:gd name="adj1" fmla="val 50000"/>
              <a:gd name="adj2" fmla="val 129023"/>
            </a:avLst>
          </a:prstGeom>
          <a:solidFill>
            <a:srgbClr val="ffff00"/>
          </a:soli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1828800" y="5486400"/>
            <a:ext cx="6894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يمكن أن يساهم </a:t>
            </a:r>
            <a:r>
              <a:rPr b="1" lang="ar-AE" sz="20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فيتامين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”أ“</a:t>
            </a:r>
            <a:r>
              <a:rPr b="1" lang="ar-AE" sz="20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r>
              <a:rPr b="1" lang="ar-EG" sz="20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ذي يوصف </a:t>
            </a:r>
            <a:r>
              <a:rPr b="1" lang="ar-AE" sz="20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للسكان </a:t>
            </a:r>
            <a:r>
              <a:rPr b="1" lang="ar-EG" sz="20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أكثر عرضة في </a:t>
            </a:r>
            <a:r>
              <a:rPr b="1" lang="ar-AE" sz="20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قل</a:t>
            </a:r>
            <a:r>
              <a:rPr b="1" lang="ar-EG" sz="20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ي</a:t>
            </a:r>
            <a:r>
              <a:rPr b="1" lang="ar-AE" sz="20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ل ال</a:t>
            </a:r>
            <a:r>
              <a:rPr b="1" lang="ar-EG" sz="20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أ</a:t>
            </a:r>
            <a:r>
              <a:rPr b="1" lang="ar-AE" sz="20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راض والوفيات المرتبطة </a:t>
            </a:r>
            <a:r>
              <a:rPr b="1" lang="ar-EG" sz="20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ب</a:t>
            </a:r>
            <a:r>
              <a:rPr b="1" lang="ar-AE" sz="20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حصبة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وذلك </a:t>
            </a:r>
            <a:r>
              <a:rPr b="1" lang="ar-AE" sz="20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إلى حد كبير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ccecff"/>
                </a:solidFill>
                <a:latin typeface="Times New Roman"/>
              </a:rPr>
              <a:t>التاريخ</a:t>
            </a:r>
            <a:r>
              <a:rPr b="0" lang="ar-EG" sz="14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461A-05E2-45F1-8AF5-503F858DAD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99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49040" y="1294920"/>
            <a:ext cx="69087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316080" y="228600"/>
            <a:ext cx="8511840" cy="6159600"/>
          </a:xfrm>
          <a:prstGeom prst="rect">
            <a:avLst/>
          </a:prstGeom>
          <a:noFill/>
          <a:ln w="2556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5" name="Line 5"/>
          <p:cNvSpPr/>
          <p:nvPr/>
        </p:nvSpPr>
        <p:spPr>
          <a:xfrm>
            <a:off x="2889360" y="1143000"/>
            <a:ext cx="336528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6" name="Picture 6" descr="vitA"/>
          <p:cNvPicPr/>
          <p:nvPr/>
        </p:nvPicPr>
        <p:blipFill>
          <a:blip r:embed="rId1"/>
          <a:stretch/>
        </p:blipFill>
        <p:spPr>
          <a:xfrm>
            <a:off x="533520" y="304920"/>
            <a:ext cx="81277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F531-ABBE-4BC0-8DF5-E9A1329151F7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152280" y="7632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خدمات الصحة الأساسية – معيار صحة الطفل رقم </a:t>
            </a:r>
            <a:r>
              <a:rPr b="1" lang="ar-AE" sz="32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2</a:t>
            </a:r>
            <a:r>
              <a:rPr b="1" lang="ar-AE" sz="32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: إدارة أمراض</a:t>
            </a:r>
            <a:r>
              <a:rPr b="1" lang="ar-EG" sz="32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</a:t>
            </a:r>
            <a:r>
              <a:rPr b="1" lang="ar-AE" sz="32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الرُضّع وصغار الأطفال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04920" y="1752480"/>
            <a:ext cx="3962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ينبغي أن يحصل الأطفال،من باب الأولوية، على خدمات الصحة المخططة</a:t>
            </a:r>
            <a:r>
              <a:rPr b="0" lang="ar-EG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للتصدي لأهم أسباب اعتلال الرضع وصغار الأطفال وموتهم.</a:t>
            </a:r>
            <a:r>
              <a:rPr b="0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228600" y="4495680"/>
            <a:ext cx="419112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308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4648320" y="4800600"/>
            <a:ext cx="396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صورة لأم تحتضن رضيعها الذي يعاني سوء التغذية في مستشفى ميداني في مخيم لاجئين في داداب- كينيا، </a:t>
            </a:r>
            <a:r>
              <a:rPr b="0" lang="ar-EG" sz="1800" spc="-1" strike="noStrike">
                <a:solidFill>
                  <a:srgbClr val="ccecff"/>
                </a:solidFill>
                <a:latin typeface="Arial"/>
                <a:ea typeface="Traditional Arabic"/>
              </a:rPr>
              <a:t>2011</a:t>
            </a:r>
            <a:r>
              <a:rPr b="0" lang="ar-EG" sz="1800" spc="-1" strike="noStrike">
                <a:solidFill>
                  <a:srgbClr val="ccecff"/>
                </a:solidFill>
                <a:latin typeface="Arial"/>
                <a:ea typeface="Traditional Arabic"/>
              </a:rPr>
              <a:t>. حقوق طبع الصورة  ل</a:t>
            </a:r>
            <a:r>
              <a:rPr b="0" lang="ar-SA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بوريس روسلار، د.ب.أ / لاندوف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ccecff"/>
                </a:solidFill>
                <a:latin typeface="Arial"/>
                <a:ea typeface="Traditional Arabic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  <a:ea typeface="Traditional Arabic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02" name="Picture 2" descr="http://www.thedailybeast.com/content/dailybeast/articles/2011/08/08/david-muir-reports-from-somalia-refugees-famine-and-freedom/_jcr_content/body/inlineimage_1.img.jpg/1312832569697.jpg"/>
          <p:cNvPicPr/>
          <p:nvPr/>
        </p:nvPicPr>
        <p:blipFill>
          <a:blip r:embed="rId1"/>
          <a:stretch/>
        </p:blipFill>
        <p:spPr>
          <a:xfrm>
            <a:off x="4572000" y="1295280"/>
            <a:ext cx="411480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60E9-2847-41D0-A1B7-2B7F60344D52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0" y="2286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خدمات الصحة الأساسية – معيار الصحة الجنسية والإنجابية رقم </a:t>
            </a:r>
            <a:r>
              <a:rPr b="1" lang="ar-AE" sz="32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1</a:t>
            </a:r>
            <a:r>
              <a:rPr b="1" lang="ar-AE" sz="32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:</a:t>
            </a:r>
            <a:r>
              <a:rPr b="1" lang="ar-EG" sz="32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</a:t>
            </a:r>
            <a:r>
              <a:rPr b="1" lang="ar-AE" sz="32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الصحة الإنجابية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4343400" y="1828800"/>
            <a:ext cx="4495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ينبغي أن يحصل الناس على خدمات الصحة الإنجابية ذات الأولوية في إطار</a:t>
            </a:r>
            <a:r>
              <a:rPr b="0" lang="ar-EG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مجموعة الخدمات الأولية الدنيا في بداية حالة الطوارئ، وعلى خدمات الصحة</a:t>
            </a:r>
            <a:r>
              <a:rPr b="0" lang="ar-EG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الإنجابية الشاملة عند استقرار الوضع.</a:t>
            </a:r>
            <a:r>
              <a:rPr b="0" lang="ar-SA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3768480" y="5410080"/>
            <a:ext cx="609984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31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2743200" y="4495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ما هي عناصر مجموعة الخدمات الأولية الدنيا؟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08" name="Picture 12" descr="http://img.docstoccdn.com/thumb/orig/24365545.png"/>
          <p:cNvPicPr/>
          <p:nvPr/>
        </p:nvPicPr>
        <p:blipFill>
          <a:blip r:embed="rId1"/>
          <a:stretch/>
        </p:blipFill>
        <p:spPr>
          <a:xfrm rot="21004800">
            <a:off x="785520" y="1612440"/>
            <a:ext cx="31528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2F81-5DCE-4FB1-8770-B54B1279A84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1523880" y="22860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811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99ff66"/>
                </a:solidFill>
                <a:latin typeface="Arial"/>
                <a:cs typeface="Traditional Arabic"/>
              </a:rPr>
              <a:t>ما هي عناصر مجموعة الخدمات الأولية الدنيا؟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6553080" y="1981080"/>
            <a:ext cx="225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66ff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99"/>
                </a:solidFill>
                <a:latin typeface="Arial"/>
                <a:cs typeface="Traditional Arabic"/>
              </a:rPr>
              <a:t>الدنيا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66ff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99"/>
                </a:solidFill>
                <a:latin typeface="Arial"/>
                <a:cs typeface="Traditional Arabic"/>
              </a:rPr>
              <a:t>الأولية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66ff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99"/>
                </a:solidFill>
                <a:latin typeface="Arial"/>
                <a:cs typeface="Traditional Arabic"/>
              </a:rPr>
              <a:t>الخدمة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66ff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99"/>
                </a:solidFill>
                <a:latin typeface="Arial"/>
                <a:cs typeface="Traditional Arabic"/>
              </a:rPr>
              <a:t>مجموعة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838080" y="1981080"/>
            <a:ext cx="566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66ff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خدمات أساسية محدودة للصحة الإنجابية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66ff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للاستخدام في حالات الطوارئ، بدون تقييم احتياجات خاصة بالموقع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66ff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خدمات يتم تقديمها للسكان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إمدادات وأنشطة، تنسيق وتخطي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8BE5-45B7-4042-BB60-80A364E69B13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Tahoma"/>
                <a:cs typeface="Traditional Arabic"/>
              </a:rPr>
              <a:t>نظام الصحة يعني ما يلي</a:t>
            </a:r>
            <a:r>
              <a:rPr b="0" lang="ar-EG" sz="4400" spc="-1" strike="noStrike">
                <a:solidFill>
                  <a:srgbClr val="ffffff"/>
                </a:solidFill>
                <a:latin typeface="Tahoma"/>
                <a:ea typeface="Traditional Arabic"/>
              </a:rPr>
              <a:t>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EG" sz="3200" spc="-1" strike="noStrike">
                <a:solidFill>
                  <a:srgbClr val="ccecff"/>
                </a:solidFill>
                <a:latin typeface="Tahoma"/>
                <a:ea typeface="Traditional Arabic"/>
              </a:rPr>
              <a:t>” جميع المنظمات والمؤسسات والموارد الخاصة بتقديم الخدمات الصحية“- تعريف منظمة الصحة العالمية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28600" y="228600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Tahoma"/>
                <a:cs typeface="Traditional Arabic"/>
              </a:rPr>
              <a:t>خدمات الصحة الأساسية تعني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685800" y="36576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ahoma"/>
                <a:ea typeface="Traditional Arabic"/>
              </a:rPr>
              <a:t> </a:t>
            </a:r>
            <a:r>
              <a:rPr b="0" i="1" lang="ar-EG" sz="3200" spc="-1" strike="noStrike">
                <a:solidFill>
                  <a:srgbClr val="ccecff"/>
                </a:solidFill>
                <a:latin typeface="Tahoma"/>
                <a:ea typeface="Traditional Arabic"/>
              </a:rPr>
              <a:t>” الخدمات الصحية الوقائية والعلاجية المناسبة لمعالجة الاحتياجات الصحية للسكان المتأثرين بالكوارث“-</a:t>
            </a:r>
            <a:r>
              <a:rPr b="0" i="1" lang="ar-SA" sz="3200" spc="-1" strike="noStrike">
                <a:solidFill>
                  <a:srgbClr val="ccecff"/>
                </a:solidFill>
                <a:latin typeface="Tahoma"/>
                <a:ea typeface="Traditional Arabic"/>
              </a:rPr>
              <a:t> دليل اسفير ص  </a:t>
            </a:r>
            <a:r>
              <a:rPr b="0" i="1" lang="ar-SA" sz="3200" spc="-1" strike="noStrike">
                <a:solidFill>
                  <a:srgbClr val="ccecff"/>
                </a:solidFill>
                <a:latin typeface="Tahoma"/>
                <a:ea typeface="Traditional Arabic"/>
              </a:rPr>
              <a:t>294</a:t>
            </a:r>
            <a:r>
              <a:rPr b="0" i="1" lang="ar-SA" sz="3200" spc="-1" strike="noStrike">
                <a:solidFill>
                  <a:srgbClr val="ccecff"/>
                </a:solidFill>
                <a:latin typeface="Tahoma"/>
                <a:ea typeface="Traditional Arabic"/>
              </a:rPr>
              <a:t> </a:t>
            </a:r>
            <a:r>
              <a:rPr b="0" i="1" lang="ar-EG" sz="3200" spc="-1" strike="noStrike">
                <a:solidFill>
                  <a:srgbClr val="ccecff"/>
                </a:solidFill>
                <a:latin typeface="Tahoma"/>
                <a:ea typeface="Traditional Arabic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9560-44EF-4481-B4FC-2CE0E103BDF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304920" y="4572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شمل الصحة الإنجابية على ما يلي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ff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ff66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مومة ال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آمنة</a:t>
            </a:r>
            <a:r>
              <a:rPr b="0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، بما في ذلك خدمات الرعاية الطارئة ال</a:t>
            </a:r>
            <a:r>
              <a:rPr b="0" lang="ar-EG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تعلقة بعمليات ال</a:t>
            </a:r>
            <a:r>
              <a:rPr b="0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ل</a:t>
            </a:r>
            <a:r>
              <a:rPr b="0" lang="ar-EG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د</a:t>
            </a:r>
            <a:r>
              <a:rPr b="0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ة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66ff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وقاية من العنف الجنسي والجنساني ومعالجة أثاره.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ff66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حد من انتقال فيروس نقص المناعة</a:t>
            </a:r>
            <a:r>
              <a:rPr b="0" lang="ar-EG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بشرية</a:t>
            </a:r>
            <a:r>
              <a:rPr b="0" lang="ar-EG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/</a:t>
            </a:r>
            <a:r>
              <a:rPr b="0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مراض المنقولة جنسيا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66ff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نظيم الأسرة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4C31-053B-433F-B647-67EFB5D8E93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7/31/26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0" y="1676520"/>
            <a:ext cx="914400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380880" y="380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سباب الرئيسية لوفيات الأمهات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318" name="Object 3"/>
          <p:cNvGraphicFramePr/>
          <p:nvPr/>
        </p:nvGraphicFramePr>
        <p:xfrm>
          <a:off x="0" y="1905120"/>
          <a:ext cx="88390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88390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TextBox 6"/>
          <p:cNvSpPr/>
          <p:nvPr/>
        </p:nvSpPr>
        <p:spPr>
          <a:xfrm>
            <a:off x="1752480" y="1981080"/>
            <a:ext cx="1067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خرى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7%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1" name="TextBox 7"/>
          <p:cNvSpPr/>
          <p:nvPr/>
        </p:nvSpPr>
        <p:spPr>
          <a:xfrm>
            <a:off x="5867280" y="2057400"/>
            <a:ext cx="1143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نزيف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5%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6172200" y="5334120"/>
            <a:ext cx="10666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عفن</a:t>
            </a:r>
            <a:r>
              <a:rPr b="0" lang="ar-EG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دم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5%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3" name="TextBox 9"/>
          <p:cNvSpPr/>
          <p:nvPr/>
        </p:nvSpPr>
        <p:spPr>
          <a:xfrm>
            <a:off x="838080" y="5029200"/>
            <a:ext cx="15242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إنسداد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8%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4" name="TextBox 11"/>
          <p:cNvSpPr/>
          <p:nvPr/>
        </p:nvSpPr>
        <p:spPr>
          <a:xfrm>
            <a:off x="2209680" y="6458040"/>
            <a:ext cx="1067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إجهاض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C3A9-23FA-4D54-9888-B07C70DF71FE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57200" y="274320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ا هي مجموعة الصحة الإنجابية لصندوق الأمم المتحدة للأنشطة السكان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التي تُستخدم في الرعاية الصحية الأولية / على صعيد مركز صحي ؟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تدريب والإدارة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اقيات ذكرية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جموعة خدمات نظيفة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عالجة اثار ما بعد الاغتصا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سائل منع حمل فموية ومن خلال الحق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أدوية لعلاج الأمراض المنقولة جنسي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304920" y="380880"/>
            <a:ext cx="85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جموعة الجديدة للصحة في حالات الطوارئ (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NEHK</a:t>
            </a:r>
            <a:r>
              <a:rPr b="0" lang="ar-EG" sz="24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) ل</a:t>
            </a:r>
            <a:r>
              <a:rPr b="0" lang="ar-AE" sz="2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نظمة الصحة العالمية الصحة ل</a:t>
            </a:r>
            <a:r>
              <a:rPr b="0" lang="ar-EG" sz="2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ـ </a:t>
            </a:r>
            <a:r>
              <a:rPr b="0" lang="ar-AE" sz="20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10،000</a:t>
            </a:r>
            <a:r>
              <a:rPr b="0" lang="ar-AE" sz="20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r>
              <a:rPr b="0" lang="ar-AE" sz="2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شخص لمدة </a:t>
            </a:r>
            <a:r>
              <a:rPr b="0" lang="ar-AE" sz="20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3</a:t>
            </a:r>
            <a:r>
              <a:rPr b="0" lang="ar-AE" sz="20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r>
              <a:rPr b="0" lang="ar-AE" sz="2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أشهر .. </a:t>
            </a:r>
            <a:r>
              <a:rPr b="0" lang="ar-AE" sz="2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* </a:t>
            </a:r>
            <a:r>
              <a:rPr b="0" lang="ar-EG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تم إجراء </a:t>
            </a:r>
            <a:r>
              <a:rPr b="0" lang="ar-AE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آخر تحديث </a:t>
            </a:r>
            <a:r>
              <a:rPr b="0" lang="ar-EG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لمجموعة</a:t>
            </a:r>
            <a:r>
              <a:rPr b="0" lang="ar-AE" sz="2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الصحة في حالات الطوارئ في عام </a:t>
            </a:r>
            <a:r>
              <a:rPr b="0" lang="ar-AE" sz="20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1998</a:t>
            </a:r>
            <a:r>
              <a:rPr b="0" lang="ar-AE" sz="20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</a:t>
            </a:r>
            <a:r>
              <a:rPr b="0" lang="ar-AE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ويجري مراجع</a:t>
            </a:r>
            <a:r>
              <a:rPr b="0" lang="ar-EG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تها </a:t>
            </a:r>
            <a:r>
              <a:rPr b="0" lang="ar-AE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حاليا</a:t>
            </a:r>
            <a:r>
              <a:rPr b="0" lang="ar-EG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ً</a:t>
            </a:r>
            <a:r>
              <a:rPr b="0" lang="ar-AE" sz="2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. المجموعة </a:t>
            </a:r>
            <a:r>
              <a:rPr b="0" lang="ar-EG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الجديدة التي حلت محلها يطلق عليها (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IEHK</a:t>
            </a:r>
            <a:r>
              <a:rPr b="0" lang="ar-EG" sz="2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) أو مجموعة الصحة بين الوكالات في حالات الطوارئ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D298-691F-41A1-BD03-23564C4AD655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-228600" y="152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خدمات الصحة الأساسية – معيار الصحة الجنسية والإنجابية رقم </a:t>
            </a:r>
            <a:r>
              <a:rPr b="1" lang="ar-AE" sz="32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2</a:t>
            </a:r>
            <a:r>
              <a:rPr b="1" lang="ar-AE" sz="32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فيروس نقص المناعة البشرية والإيد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5029200" y="1600200"/>
            <a:ext cx="3505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ينبغي أن يحصل الناس على الحد الأدنى من خدمات الوقاية من فيروس نقص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المناعة البشرية والعلاج والرعاية والدعم في أثناء الكوارث.</a:t>
            </a:r>
            <a:r>
              <a:rPr b="0" lang="ar-SA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2962080" y="5410080"/>
            <a:ext cx="709488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31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-96480" y="3886200"/>
            <a:ext cx="28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ccecff"/>
                </a:solidFill>
                <a:latin typeface="Arial"/>
                <a:cs typeface="Traditional Arabic"/>
              </a:rPr>
              <a:t>حقوق طبع الصور ل: 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  <a:ea typeface="Traditional Arabic"/>
              </a:rPr>
              <a:t>imediata.com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43000" y="45720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ما هو التحفظ الملاحظ بشكل أساسي على هذا المعيار؟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  <a:ea typeface="Traditional Arabic"/>
              </a:rPr>
              <a:t>(انظر صفحة رقم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  <a:ea typeface="Traditional Arabic"/>
              </a:rPr>
              <a:t>315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  <a:ea typeface="Traditional Arabic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34" name="Picture 9" descr="condom"/>
          <p:cNvPicPr/>
          <p:nvPr/>
        </p:nvPicPr>
        <p:blipFill>
          <a:blip r:embed="rId1"/>
          <a:stretch/>
        </p:blipFill>
        <p:spPr>
          <a:xfrm>
            <a:off x="533520" y="1371600"/>
            <a:ext cx="35049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1A1C-3090-432B-BB6D-A14C00E52E5F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6" name="Text Box 2"/>
          <p:cNvSpPr/>
          <p:nvPr/>
        </p:nvSpPr>
        <p:spPr>
          <a:xfrm>
            <a:off x="0" y="1522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خدمات الصحة الأساسية – معيار الإصابات رقم </a:t>
            </a:r>
            <a:r>
              <a:rPr b="1" lang="ar-AE" sz="32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1</a:t>
            </a:r>
            <a:r>
              <a:rPr b="1" lang="ar-AE" sz="32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: معالجة الإصابات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4648320" y="1676520"/>
            <a:ext cx="4190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ينبغي أن يحصل الناس على رعاية فعالة في مجال معالجة الإصابات في أثناء</a:t>
            </a:r>
            <a:r>
              <a:rPr b="0" lang="ar-EG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الكوارث للوقاية من الأمراض والوفيات وأشكال العجز التي يمكن تفاديها.</a:t>
            </a:r>
            <a:r>
              <a:rPr b="0" lang="ar-SA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768480" y="5334120"/>
            <a:ext cx="609984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316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999000" y="487692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ccecff"/>
                </a:solidFill>
                <a:latin typeface="Arial"/>
                <a:cs typeface="Traditional Arabic"/>
              </a:rPr>
              <a:t>مثال لبطاقة الفرز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4343400" y="45720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كم عدد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 /</a:t>
            </a:r>
            <a:r>
              <a:rPr b="1" lang="ar-EG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 ما هو نوع الخدمات ”المناسبة“ 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41" name="Picture 9" descr="triage"/>
          <p:cNvPicPr/>
          <p:nvPr/>
        </p:nvPicPr>
        <p:blipFill>
          <a:blip r:embed="rId1"/>
          <a:stretch/>
        </p:blipFill>
        <p:spPr>
          <a:xfrm>
            <a:off x="304920" y="1143000"/>
            <a:ext cx="373356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228600" y="1810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خدمات الصحة الأساسية – معيار الصحة العقلية رقم </a:t>
            </a:r>
            <a:r>
              <a:rPr b="1" lang="ar-AE" sz="32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1</a:t>
            </a:r>
            <a:r>
              <a:rPr b="1" lang="ar-AE" sz="32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: الصحة العقلية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4800600" y="1752480"/>
            <a:ext cx="3886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ينبغي أن يحصل الناس على خدمات الصحة التي تقيهم من مشكلات الصحة</a:t>
            </a:r>
            <a:r>
              <a:rPr b="0" lang="ar-EG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العقلية وما تجره من اختلال في سلوكهم وتقللها.</a:t>
            </a:r>
            <a:r>
              <a:rPr b="0" lang="ar-SA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4876920" y="4572000"/>
            <a:ext cx="426708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0" lang="ar-EG" sz="1800" spc="-1" strike="noStrike">
                <a:solidFill>
                  <a:srgbClr val="ffffff"/>
                </a:solidFill>
                <a:latin typeface="Arial"/>
                <a:ea typeface="Traditional Arabic"/>
              </a:rPr>
              <a:t>318</a:t>
            </a:r>
            <a:r>
              <a:rPr b="0" lang="ar-EG" sz="1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ن دليل اسفير - طبعة عام </a:t>
            </a:r>
            <a:r>
              <a:rPr b="0" lang="ar-EG" sz="18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45" name="Picture 11" descr="http://www.unhcr.org/thumb1/4ee729956.jpg"/>
          <p:cNvPicPr/>
          <p:nvPr/>
        </p:nvPicPr>
        <p:blipFill>
          <a:blip r:embed="rId1"/>
          <a:stretch/>
        </p:blipFill>
        <p:spPr>
          <a:xfrm>
            <a:off x="457200" y="1371600"/>
            <a:ext cx="4114800" cy="32004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10"/>
          <p:cNvSpPr/>
          <p:nvPr/>
        </p:nvSpPr>
        <p:spPr>
          <a:xfrm>
            <a:off x="304920" y="4648320"/>
            <a:ext cx="441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ل</a:t>
            </a:r>
            <a:r>
              <a:rPr b="0" lang="ar-AE" sz="1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اج</a:t>
            </a:r>
            <a:r>
              <a:rPr b="0" lang="ar-SA" sz="1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ئو</a:t>
            </a:r>
            <a:r>
              <a:rPr b="0" lang="ar-AE" sz="1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ن</a:t>
            </a:r>
            <a:r>
              <a:rPr b="0" lang="ar-EG" sz="1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لا</a:t>
            </a:r>
            <a:r>
              <a:rPr b="0" lang="ar-AE" sz="1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</a:t>
            </a:r>
            <a:r>
              <a:rPr b="0" lang="ar-EG" sz="1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ي</a:t>
            </a:r>
            <a:r>
              <a:rPr b="0" lang="ar-AE" sz="1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زالو</a:t>
            </a:r>
            <a:r>
              <a:rPr b="0" lang="ar-EG" sz="1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ن</a:t>
            </a:r>
            <a:r>
              <a:rPr b="0" lang="ar-AE" sz="1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يخشون على حياتهم يسكن</a:t>
            </a:r>
            <a:r>
              <a:rPr b="0" lang="ar-EG" sz="1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ون</a:t>
            </a:r>
            <a:r>
              <a:rPr b="0" lang="ar-AE" sz="1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في "منطقة حماية" </a:t>
            </a:r>
            <a:r>
              <a:rPr b="0" lang="ar-EG" sz="1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في مخيم </a:t>
            </a:r>
            <a:r>
              <a:rPr b="0" lang="ar-AE" sz="1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كاكوما الذي يوفر </a:t>
            </a:r>
            <a:r>
              <a:rPr b="0" lang="ar-EG" sz="1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لهم </a:t>
            </a:r>
            <a:r>
              <a:rPr b="0" lang="ar-AE" sz="1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مزيد من الأمان و بعض الرعاية الاجتماعية والنفسية. – </a:t>
            </a:r>
            <a:r>
              <a:rPr b="0" lang="ar-EG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حقوق طبع الصورة ل</a:t>
            </a:r>
            <a:r>
              <a:rPr b="0" lang="ar-AE" sz="1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لمفوضية </a:t>
            </a:r>
            <a:r>
              <a:rPr b="0" lang="ar-EG" sz="1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العليا –</a:t>
            </a:r>
            <a:r>
              <a:rPr b="0" lang="ar-AE" sz="1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G.Beal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2A38-2C4E-4261-90C2-7EF225C678D8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8" name="Text Box 2"/>
          <p:cNvSpPr/>
          <p:nvPr/>
        </p:nvSpPr>
        <p:spPr>
          <a:xfrm>
            <a:off x="228600" y="1810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خدمات الصحة الأساسية – معيار الأمراض غير المعدية رقم </a:t>
            </a:r>
            <a:r>
              <a:rPr b="1" lang="ar-AE" sz="32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1</a:t>
            </a:r>
            <a:r>
              <a:rPr b="1" lang="ar-AE" sz="32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: الأمراض</a:t>
            </a:r>
            <a:r>
              <a:rPr b="1" lang="ar-EG" sz="32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</a:t>
            </a:r>
            <a:r>
              <a:rPr b="1" lang="ar-AE" sz="32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غير المعدية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5410080" y="2133720"/>
            <a:ext cx="3429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ينبغي أن يحصل الناس على أنواع العلاج الأساسي لتقليل الاعتلال والوفيات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الناجمة عن مضاعفات خطيرة، أو تفاقم مرضهم المزمن.</a:t>
            </a:r>
            <a:r>
              <a:rPr b="0" lang="ar-SA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844800" y="5562720"/>
            <a:ext cx="609984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321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51" name="Picture 9" descr="diabetes-insulin"/>
          <p:cNvPicPr/>
          <p:nvPr/>
        </p:nvPicPr>
        <p:blipFill>
          <a:blip r:embed="rId1"/>
          <a:stretch/>
        </p:blipFill>
        <p:spPr>
          <a:xfrm>
            <a:off x="2286000" y="2514600"/>
            <a:ext cx="1616040" cy="2949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1" descr="asthma-inhaler"/>
          <p:cNvPicPr/>
          <p:nvPr/>
        </p:nvPicPr>
        <p:blipFill>
          <a:blip r:embed="rId2"/>
          <a:stretch/>
        </p:blipFill>
        <p:spPr>
          <a:xfrm>
            <a:off x="380880" y="2514600"/>
            <a:ext cx="1828800" cy="289548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2"/>
          <p:cNvSpPr/>
          <p:nvPr/>
        </p:nvSpPr>
        <p:spPr>
          <a:xfrm>
            <a:off x="2576160" y="548640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ccecff"/>
                </a:solidFill>
                <a:latin typeface="Arial"/>
                <a:cs typeface="Traditional Arabic"/>
              </a:rPr>
              <a:t>انسولين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52920" y="556272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ccecff"/>
                </a:solidFill>
                <a:latin typeface="Arial"/>
                <a:cs typeface="Traditional Arabic"/>
              </a:rPr>
              <a:t>استنشاق لمرضى الربو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4E4D-82AD-49F8-A7EB-AD8F4496F210}" type="datetime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07/31/26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7744-DC32-4D78-80A7-C95C2B1E3567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4419720" y="533520"/>
            <a:ext cx="434340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5945400" y="30492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000000"/>
                </a:solidFill>
                <a:latin typeface="Arial"/>
                <a:cs typeface="Traditional Arabic"/>
              </a:rPr>
              <a:t>خلاص</a:t>
            </a: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Traditional Arabic"/>
              </a:rPr>
              <a:t>ة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228600" y="1371600"/>
            <a:ext cx="397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c5cff"/>
                </a:solidFill>
                <a:latin typeface="Times New Roman"/>
                <a:cs typeface="Traditional Arabic"/>
              </a:rPr>
              <a:t>عليك فهم الأمور قبل الشروع في القيام بمهامك.</a:t>
            </a:r>
            <a:br>
              <a:rPr sz="2400"/>
            </a:br>
            <a:br>
              <a:rPr sz="2400"/>
            </a:br>
            <a:r>
              <a:rPr b="1" lang="ar-EG" sz="2400" spc="-1" strike="noStrike">
                <a:solidFill>
                  <a:srgbClr val="5c5cff"/>
                </a:solidFill>
                <a:latin typeface="Times New Roman"/>
                <a:cs typeface="Traditional Arabic"/>
              </a:rPr>
              <a:t>سيطر على </a:t>
            </a:r>
            <a:r>
              <a:rPr b="1" lang="ar-AE" sz="2400" spc="-1" strike="noStrike">
                <a:solidFill>
                  <a:srgbClr val="5c5cff"/>
                </a:solidFill>
                <a:latin typeface="Times New Roman"/>
                <a:cs typeface="Traditional Arabic"/>
              </a:rPr>
              <a:t>مشكل</a:t>
            </a:r>
            <a:r>
              <a:rPr b="1" lang="ar-EG" sz="2400" spc="-1" strike="noStrike">
                <a:solidFill>
                  <a:srgbClr val="5c5cff"/>
                </a:solidFill>
                <a:latin typeface="Times New Roman"/>
                <a:cs typeface="Traditional Arabic"/>
              </a:rPr>
              <a:t>ات </a:t>
            </a:r>
            <a:r>
              <a:rPr b="1" lang="ar-AE" sz="2400" spc="-1" strike="noStrike">
                <a:solidFill>
                  <a:srgbClr val="5c5cff"/>
                </a:solidFill>
                <a:latin typeface="Times New Roman"/>
                <a:cs typeface="Traditional Arabic"/>
              </a:rPr>
              <a:t>ال</a:t>
            </a:r>
            <a:r>
              <a:rPr b="1" lang="ar-EG" sz="2400" spc="-1" strike="noStrike">
                <a:solidFill>
                  <a:srgbClr val="5c5cff"/>
                </a:solidFill>
                <a:latin typeface="Times New Roman"/>
                <a:cs typeface="Traditional Arabic"/>
              </a:rPr>
              <a:t>أ</a:t>
            </a:r>
            <a:r>
              <a:rPr b="1" lang="ar-AE" sz="2400" spc="-1" strike="noStrike">
                <a:solidFill>
                  <a:srgbClr val="5c5cff"/>
                </a:solidFill>
                <a:latin typeface="Times New Roman"/>
                <a:cs typeface="Traditional Arabic"/>
              </a:rPr>
              <a:t>مر</a:t>
            </a:r>
            <a:r>
              <a:rPr b="1" lang="ar-EG" sz="2400" spc="-1" strike="noStrike">
                <a:solidFill>
                  <a:srgbClr val="5c5cff"/>
                </a:solidFill>
                <a:latin typeface="Times New Roman"/>
                <a:cs typeface="Traditional Arabic"/>
              </a:rPr>
              <a:t>ا</a:t>
            </a:r>
            <a:r>
              <a:rPr b="1" lang="ar-AE" sz="2400" spc="-1" strike="noStrike">
                <a:solidFill>
                  <a:srgbClr val="5c5cff"/>
                </a:solidFill>
                <a:latin typeface="Times New Roman"/>
                <a:cs typeface="Traditional Arabic"/>
              </a:rPr>
              <a:t>ض وانتشاره</a:t>
            </a:r>
            <a:r>
              <a:rPr b="1" lang="ar-EG" sz="2400" spc="-1" strike="noStrike">
                <a:solidFill>
                  <a:srgbClr val="5c5cff"/>
                </a:solidFill>
                <a:latin typeface="Times New Roman"/>
                <a:cs typeface="Traditional Arabic"/>
              </a:rPr>
              <a:t>ا</a:t>
            </a:r>
            <a:r>
              <a:rPr b="1" lang="ar-AE" sz="2400" spc="-1" strike="noStrike">
                <a:solidFill>
                  <a:srgbClr val="5c5cff"/>
                </a:solidFill>
                <a:latin typeface="Times New Roman"/>
                <a:ea typeface="Traditional Arabic"/>
              </a:rPr>
              <a:t> (عادة ما </a:t>
            </a:r>
            <a:r>
              <a:rPr b="1" lang="ar-EG" sz="2400" spc="-1" strike="noStrike">
                <a:solidFill>
                  <a:srgbClr val="5c5cff"/>
                </a:solidFill>
                <a:latin typeface="Times New Roman"/>
                <a:cs typeface="Traditional Arabic"/>
              </a:rPr>
              <a:t>تنجم عن إخفاقات</a:t>
            </a:r>
            <a:r>
              <a:rPr b="1" lang="ar-AE" sz="2400" spc="-1" strike="noStrike">
                <a:solidFill>
                  <a:srgbClr val="5c5cff"/>
                </a:solidFill>
                <a:latin typeface="Times New Roman"/>
                <a:ea typeface="Traditional Arabic"/>
              </a:rPr>
              <a:t> في قطاعات أخرى)</a:t>
            </a:r>
            <a:br>
              <a:rPr sz="2400"/>
            </a:br>
            <a:br>
              <a:rPr sz="2400"/>
            </a:br>
            <a:r>
              <a:rPr b="1" lang="ar-AE" sz="2400" spc="-1" strike="noStrike">
                <a:solidFill>
                  <a:srgbClr val="5c5cff"/>
                </a:solidFill>
                <a:latin typeface="Times New Roman"/>
                <a:cs typeface="Traditional Arabic"/>
              </a:rPr>
              <a:t>وفر رعاية صحية ملائمة للرجال </a:t>
            </a:r>
            <a:r>
              <a:rPr b="1" lang="ar-EG" sz="2400" spc="-1" strike="noStrike">
                <a:solidFill>
                  <a:srgbClr val="5c5cff"/>
                </a:solidFill>
                <a:latin typeface="Times New Roman"/>
                <a:cs typeface="Traditional Arabic"/>
              </a:rPr>
              <a:t>و</a:t>
            </a:r>
            <a:r>
              <a:rPr b="1" lang="ar-AE" sz="2400" spc="-1" strike="noStrike">
                <a:solidFill>
                  <a:srgbClr val="5c5cff"/>
                </a:solidFill>
                <a:latin typeface="Times New Roman"/>
                <a:cs typeface="Traditional Arabic"/>
              </a:rPr>
              <a:t>النساء والأطفال</a:t>
            </a:r>
            <a:br>
              <a:rPr sz="2400"/>
            </a:br>
            <a:br>
              <a:rPr sz="2400"/>
            </a:br>
            <a:r>
              <a:rPr b="1" lang="ar-EG" sz="2400" spc="-1" strike="noStrike">
                <a:solidFill>
                  <a:srgbClr val="5c5cff"/>
                </a:solidFill>
                <a:latin typeface="Times New Roman"/>
                <a:cs typeface="Traditional Arabic"/>
              </a:rPr>
              <a:t>قم </a:t>
            </a:r>
            <a:r>
              <a:rPr b="1" lang="ar-AE" sz="2400" spc="-1" strike="noStrike">
                <a:solidFill>
                  <a:srgbClr val="5c5cff"/>
                </a:solidFill>
                <a:latin typeface="Times New Roman"/>
                <a:cs typeface="Traditional Arabic"/>
              </a:rPr>
              <a:t>بذلك بطريقة تساعد على بناء قدر</a:t>
            </a:r>
            <a:r>
              <a:rPr b="1" lang="ar-EG" sz="2400" spc="-1" strike="noStrike">
                <a:solidFill>
                  <a:srgbClr val="5c5cff"/>
                </a:solidFill>
                <a:latin typeface="Times New Roman"/>
                <a:cs typeface="Traditional Arabic"/>
              </a:rPr>
              <a:t>ات </a:t>
            </a:r>
            <a:r>
              <a:rPr b="1" lang="ar-AE" sz="2400" spc="-1" strike="noStrike">
                <a:solidFill>
                  <a:srgbClr val="5c5cff"/>
                </a:solidFill>
                <a:latin typeface="Times New Roman"/>
                <a:cs typeface="Traditional Arabic"/>
              </a:rPr>
              <a:t>خدمات صحية في المجتمع</a:t>
            </a:r>
            <a:r>
              <a:rPr b="1" lang="ar-SA" sz="2400" spc="-1" strike="noStrike">
                <a:solidFill>
                  <a:srgbClr val="5c5cff"/>
                </a:solidFill>
                <a:latin typeface="Times New Roman"/>
                <a:ea typeface="Traditional Arabic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61" name="Picture 8" descr="stethoscope"/>
          <p:cNvPicPr/>
          <p:nvPr/>
        </p:nvPicPr>
        <p:blipFill>
          <a:blip r:embed="rId1"/>
          <a:stretch/>
        </p:blipFill>
        <p:spPr>
          <a:xfrm>
            <a:off x="4724280" y="1447920"/>
            <a:ext cx="4419720" cy="3395520"/>
          </a:xfrm>
          <a:prstGeom prst="rect">
            <a:avLst/>
          </a:prstGeom>
          <a:ln w="0">
            <a:noFill/>
          </a:ln>
        </p:spPr>
      </p:pic>
      <p:sp>
        <p:nvSpPr>
          <p:cNvPr id="362" name="Left Arrow 10"/>
          <p:cNvSpPr/>
          <p:nvPr/>
        </p:nvSpPr>
        <p:spPr>
          <a:xfrm>
            <a:off x="4343400" y="3657600"/>
            <a:ext cx="1447920" cy="6858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cc99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0309-245E-4D4C-BA62-D6174D075623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-304920" y="30492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عيار نظم الصحة رقم 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1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: توفير خدما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ت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الصحة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676520"/>
            <a:ext cx="3200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ينبغي أن يحصل الناس جميعا على خدمات صحية مؤثرة وسليمة وذات جودة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عالية، تكون موح</a:t>
            </a:r>
            <a:r>
              <a:rPr b="0" lang="ar-SA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ّ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دة وتلتزم بقواعد ومبادئ توجيهية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“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مقبولة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-1152720" y="5867280"/>
            <a:ext cx="709488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8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456880" y="5638680"/>
            <a:ext cx="370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ccecff"/>
                </a:solidFill>
                <a:latin typeface="Arial"/>
                <a:cs typeface="Traditional Arabic"/>
              </a:rPr>
              <a:t>صورة لعيادة تابعة لوزارة الصحة في ناميبيا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7" name="Picture 10" descr="Lusese Clinic"/>
          <p:cNvPicPr/>
          <p:nvPr/>
        </p:nvPicPr>
        <p:blipFill>
          <a:blip r:embed="rId1"/>
          <a:stretch/>
        </p:blipFill>
        <p:spPr>
          <a:xfrm>
            <a:off x="3962520" y="1752480"/>
            <a:ext cx="4495680" cy="37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8B9C-E616-4B37-9338-FA0F5FA26B31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0" y="3049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معيار نظم الصحة رقم </a:t>
            </a:r>
            <a:r>
              <a:rPr b="1" lang="ar-AE" sz="36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2</a:t>
            </a:r>
            <a:r>
              <a:rPr b="1" lang="ar-AE" sz="36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: الموارد البشرية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80880" y="1371600"/>
            <a:ext cx="3429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يضطلع بتوفير خدمات الصحة عاملون مدربون وأكفاء لهم معارف ومهارات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متنوعة مناسبة لتلبية الحاجات الصحية للسكان.</a:t>
            </a:r>
            <a:r>
              <a:rPr b="0" lang="ar-EG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-1213560" y="4952880"/>
            <a:ext cx="7184880" cy="1069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جاء الاطلاع على الصفحة رق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86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نسخة عا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733920" y="4648320"/>
            <a:ext cx="510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يستطيع العامل</a:t>
            </a:r>
            <a:r>
              <a:rPr b="0" lang="ar-SA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و</a:t>
            </a:r>
            <a:r>
              <a:rPr b="0" lang="ar-EG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ن في مجال الصحة بالمجتمع تحديد المجموعات الضعيفة، واكتشاف  الاتجاهات في أنماط  الأمراض، وتقديم إنذار مبكر من أجل تقديم استجابة سريعة للحالات الطارئة. – صورة من منظمة الصحة العالمية- </a:t>
            </a:r>
            <a:r>
              <a:rPr b="0" lang="ar-EG" sz="1800" spc="-1" strike="noStrike">
                <a:solidFill>
                  <a:srgbClr val="ccecff"/>
                </a:solidFill>
                <a:latin typeface="Arial"/>
                <a:ea typeface="Traditional Arabic"/>
              </a:rPr>
              <a:t>2009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3" name="Picture 2" descr="http://www.who.int/features/2010/community_health_workers/hac_story_2.jpg"/>
          <p:cNvPicPr/>
          <p:nvPr/>
        </p:nvPicPr>
        <p:blipFill>
          <a:blip r:embed="rId1"/>
          <a:stretch/>
        </p:blipFill>
        <p:spPr>
          <a:xfrm>
            <a:off x="3886200" y="1371600"/>
            <a:ext cx="4915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E265-E261-4FD3-8047-5234560C6D1A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-457200" y="152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نظم الصحة ومرافق البنية التحتية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معيار نظم الصحة رقم </a:t>
            </a:r>
            <a:r>
              <a:rPr b="1" lang="ar-AE" sz="36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3</a:t>
            </a:r>
            <a:r>
              <a:rPr b="1" lang="ar-AE" sz="36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: العقاقير والإمدادات الطبية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57200" y="1676520"/>
            <a:ext cx="2514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ينبغي أن يحصل السكان على إمدادات مستمرة من الأدوية واللوازم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الاستهلاكية</a:t>
            </a:r>
            <a:r>
              <a:rPr b="0" lang="ar-EG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“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-1000440" y="5791320"/>
            <a:ext cx="709488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87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136840" y="5334120"/>
            <a:ext cx="442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ccecff"/>
                </a:solidFill>
                <a:latin typeface="Arial"/>
                <a:cs typeface="Traditional Arabic"/>
              </a:rPr>
              <a:t>حقوق طبع الصورة للمفوضية العليا لشؤون اللاجئين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9" name="Picture 8" descr="sick"/>
          <p:cNvPicPr/>
          <p:nvPr/>
        </p:nvPicPr>
        <p:blipFill>
          <a:blip r:embed="rId1"/>
          <a:stretch/>
        </p:blipFill>
        <p:spPr>
          <a:xfrm>
            <a:off x="3581280" y="1523880"/>
            <a:ext cx="525780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5C80-2E0D-458D-B8DC-63A096702876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3808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معيار نظم الصحة رقم </a:t>
            </a:r>
            <a:r>
              <a:rPr b="1" lang="ar-AE" sz="36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4</a:t>
            </a:r>
            <a:r>
              <a:rPr b="1" lang="ar-AE" sz="36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: تمويل الصحة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48520" y="1676520"/>
            <a:ext cx="2666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ينبغي أن يحصل الناس على خدمات الرعاية الصحية الأولية مجانا خلال مرحلة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الكارثة بأكملها.</a:t>
            </a:r>
            <a:r>
              <a:rPr b="0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114360" y="5638680"/>
            <a:ext cx="709488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89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4" name="Picture 8" descr="Medical check-up in India - photographer Mark Hakansson"/>
          <p:cNvPicPr/>
          <p:nvPr/>
        </p:nvPicPr>
        <p:blipFill>
          <a:blip r:embed="rId1"/>
          <a:stretch/>
        </p:blipFill>
        <p:spPr>
          <a:xfrm>
            <a:off x="304920" y="14479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-273960" y="5410080"/>
            <a:ext cx="33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ccecff"/>
                </a:solidFill>
                <a:latin typeface="Arial"/>
                <a:cs typeface="Traditional Arabic"/>
              </a:rPr>
              <a:t>حقوق طبع الصورة للمجلس البريطاني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5291640" y="4343400"/>
            <a:ext cx="492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كيف تقيس هذا المعيار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C0D3-5BF3-44AA-9B07-7B0B8879D3F3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0" y="3049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معيار نظم الصحة رقم </a:t>
            </a:r>
            <a:r>
              <a:rPr b="1" lang="ar-AE" sz="36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5</a:t>
            </a:r>
            <a:r>
              <a:rPr b="1" lang="ar-AE" sz="36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: إدارة معلومات الصحة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5257800" y="137160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ينبغي أن يسترشد تخطيط خدمات الصحة وتقديمها بجمع البيانات المناسبة عن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الصحة العامة وتحليلها وتفسيرها واستعمالها.</a:t>
            </a:r>
            <a:r>
              <a:rPr b="0" lang="ar-EG" sz="2800" spc="-1" strike="noStrike">
                <a:solidFill>
                  <a:srgbClr val="ccecff"/>
                </a:solidFill>
                <a:latin typeface="Arial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038400" y="5638680"/>
            <a:ext cx="709488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9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-217800" y="5334120"/>
            <a:ext cx="31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ccecff"/>
                </a:solidFill>
                <a:latin typeface="Arial"/>
                <a:cs typeface="Traditional Arabic"/>
              </a:rPr>
              <a:t>حقوق طبع الصورة ل  ك.فوستر- مالاوي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4799520" y="4419720"/>
            <a:ext cx="492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كيف تقيس هذا المعيار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3" name="Picture 2" descr="Nesbit's cell phone program, Malawi."/>
          <p:cNvPicPr/>
          <p:nvPr/>
        </p:nvPicPr>
        <p:blipFill>
          <a:blip r:embed="rId1"/>
          <a:stretch/>
        </p:blipFill>
        <p:spPr>
          <a:xfrm>
            <a:off x="228600" y="1447920"/>
            <a:ext cx="4876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0B42-0AAF-4F61-9881-84A5EB96BFDE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AE" sz="4000" spc="-1" strike="noStrike">
                <a:solidFill>
                  <a:srgbClr val="ccffff"/>
                </a:solidFill>
                <a:latin typeface="Tahoma"/>
                <a:cs typeface="Traditional Arabic"/>
              </a:rPr>
              <a:t>نظام معلومات الصح</a:t>
            </a:r>
            <a:r>
              <a:rPr b="1" i="1" lang="ar-EG" sz="4000" spc="-1" strike="noStrike">
                <a:solidFill>
                  <a:srgbClr val="ccffff"/>
                </a:solidFill>
                <a:latin typeface="Tahoma"/>
                <a:cs typeface="Traditional Arabic"/>
              </a:rPr>
              <a:t>ة تتضمن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ecff"/>
                </a:solidFill>
                <a:latin typeface="Tahoma"/>
                <a:cs typeface="Traditional Arabic"/>
              </a:rPr>
              <a:t>الوفيات المسجلة في مرافق الصحة، بما في ذلك وفيات الأطفال دون سن خمس سنوات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ecff"/>
                </a:solidFill>
                <a:latin typeface="Tahoma"/>
                <a:cs typeface="Traditional Arabic"/>
              </a:rPr>
              <a:t>الوفيات النسبية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ecff"/>
                </a:solidFill>
                <a:latin typeface="Tahoma"/>
                <a:cs typeface="Traditional Arabic"/>
              </a:rPr>
              <a:t>الوفيات حسب مسببها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ecff"/>
                </a:solidFill>
                <a:latin typeface="Tahoma"/>
                <a:cs typeface="Traditional Arabic"/>
              </a:rPr>
              <a:t>معدل انتشار معظم الأمراض الشائعة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ecff"/>
                </a:solidFill>
                <a:latin typeface="Tahoma"/>
                <a:cs typeface="Traditional Arabic"/>
              </a:rPr>
              <a:t>الاعتلال النسبي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ecff"/>
                </a:solidFill>
                <a:latin typeface="Tahoma"/>
                <a:cs typeface="Traditional Arabic"/>
              </a:rPr>
              <a:t>معدل استعمال مرافق الصحة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ecff"/>
                </a:solidFill>
                <a:latin typeface="Tahoma"/>
                <a:cs typeface="Traditional Arabic"/>
              </a:rPr>
              <a:t>عدد الاستشارات الطبية لكل طبيب يوميا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9:29:28Z</dcterms:created>
  <dc:creator>Jim Good</dc:creator>
  <dc:description/>
  <dc:language>en-US</dc:language>
  <cp:lastModifiedBy>Customer</cp:lastModifiedBy>
  <cp:lastPrinted>2002-02-18T20:24:03Z</cp:lastPrinted>
  <dcterms:modified xsi:type="dcterms:W3CDTF">2012-11-06T14:12:36Z</dcterms:modified>
  <cp:revision>170</cp:revision>
  <dc:subject/>
  <dc:title>No Slide Title</dc:title>
</cp:coreProperties>
</file>